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3CB-5D9C-413F-9183-759DAA3E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95C-9A3C-4DD6-B785-40235EE7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B405D-ED75-487B-B74D-54179539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221BE-5248-49DC-9912-383402D7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6AB07-58D6-4701-A812-FC642E57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B9B62-6044-4854-8EC4-A3797AED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E72A8-E134-423A-912E-C57A5381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24978-33B2-4A37-9E00-6AA57792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092B3-C253-4870-9BEB-98842C5B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F2B5A-6BF3-4D4A-8BF9-58398CE5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3D1F5-D4BF-4C51-AA8C-3B331B63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87445-B273-4337-B263-AE23399E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84C-1243-4395-ABE8-080DBF95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1F16D-7304-4E46-B78F-7462BD26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028E9-F6DF-4991-9EDE-98DF826F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AEA5F-A684-43DD-AA2C-6E1CF567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CD49E-A9AC-4A87-BA44-928C50AF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BDDC6-DCD0-4B13-86F2-9D14E2E1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03A3C-0E6B-4E30-B249-E398AE09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0E4AF-6AA1-403A-AC7A-AE9002C2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ABDB3-135A-4C19-B9B7-2B9C8A54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3F9F5-3FE6-41CB-81CF-DD1B29B1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4505D-8D37-41CC-9EC7-5700AF6F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B33-136F-47A7-94F4-5830C482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92C29-E5F2-4E6C-A19C-0BA50778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DFD7F-8234-4CE3-9169-13D93DED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233DF-856B-4671-B538-8A633ABC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42131-1161-469D-A637-CB0892D5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5F75E-E31D-4592-9718-E27F3882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97CF8-0C41-46C2-96D0-8BE9BA83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0CE00-8373-4208-9D8F-4126255A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0E4E8-4EF1-4B35-9100-13A0F787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07599-B038-4A6D-A706-A6CC6FB4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DB252-149D-4B10-82C4-43886F5C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848C-E813-451C-9B9C-812080E0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51F8E-3A59-4C2B-814F-037D6B9D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1E44C-A75C-4F3B-AE7F-E335925B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3240C-8C5C-43F0-A9F0-0F849580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6F21E-8D5A-419B-AD3B-D9D69452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55C59-BCE0-4D5B-A6BA-0D8C51F2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B5F79-AA4F-416B-BA5E-473597D0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41206-6E4D-4567-BE36-9CB9D6A4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F2FCC-12AA-49D9-A302-078BDF9F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DD18D-4AA7-4B39-922D-86FAB79A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9AA8C-A2B1-4DEA-9813-E269F795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534A-F7CD-4F92-87AB-693272D9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560D6-1789-49FA-8FD6-541A0868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7131E-DBD3-4F8E-A764-3B779FA7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B0E3B-F7B8-476B-A141-A4995A6A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BC031-D65F-4323-BE4F-E070905B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69BA9-15EA-4E5B-944A-7CA42EA3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E08F3-BFC1-4074-A6F6-1939DDCE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5F52F-63D4-4B3C-8D0F-5BBE10A6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2F146-C641-4A95-9519-8EDAD41F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0B1C3-381B-4F72-873D-41C47939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E7A2F-4AA1-4790-8E65-546DDC06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F558-CD09-4CCD-8919-ECD8D4E7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93A6D-48F9-454E-AC85-04AAA516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ADFDC-0376-4E06-BD1E-56B77BF7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E4B54-D9F1-44F0-B5DC-C562041C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0EF53-032F-4E41-8B54-E8DD18C1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FD6B3-E8F4-4270-A2F5-81B49591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6D48B-0FF6-4CE7-85A4-A912825B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CD8E3-DFFC-4653-9BA7-6251E3C5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54F9-9CF1-45D9-9178-ABCE21A2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F902-624D-455B-A0BC-9C4C0CB2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890B-A889-41EA-969A-592FB3F5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81F4-AE6B-4631-AB23-D18768C9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249-84A3-4177-A069-572E3B4E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A5AD-0423-4E51-B5D5-D1063181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E7B0-1442-421E-9C82-2F339A12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488C-A958-43C8-9121-2087A82C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93E8-9C66-45C3-B6E6-39A3C187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D704-754E-4227-B81C-2F884CAC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2C672-569B-4334-AD7D-D35C7A48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ADDC-6DCF-4155-89BB-149D9F34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F46FD-6BFB-4ECE-94B1-7D20FB8C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D74D-55BD-48E7-A7B9-784228D2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387B-292B-46D1-ABCB-651CB7A1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659-B992-4A03-BBA7-FA80706B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82E6-D2D3-4E4A-A724-DACEFB09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E9B6-71CF-48FA-89A8-B39BA369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46F9-D0BC-425B-ABD9-6BC33B7F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7AC8-4CAF-499D-AA59-97165C78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F3E5-7897-470F-B36A-99681D23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2E1E-20CA-468C-A077-AEAD006B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EF74-69B6-4740-A483-CD81D25B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0E0A5-337E-4421-AC13-02DFD259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09581-2A26-4DAB-91CD-D6FED7FF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1C632-EA76-4C0B-B7FC-E1763BB8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8B7-1E00-4B2D-B198-B464627A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C1097-1BCC-4A28-BD63-24724E66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D6A5-ACB6-459F-ACC1-EB29D0DA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B1B4D-2A22-4D9A-A23A-D8F10C7C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C1B5A-6D22-4A07-B592-7534A9E6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5C527-C393-484C-A2DE-9D9F90AA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300D5-5C0A-4531-A313-68053D1D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2D7DF-0AF5-4364-8DF1-E999C777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769A-FF70-4C6E-89B4-8825B59D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7AB58-F624-4DB4-AC31-32254AC6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1F37E-58EF-403C-A1C3-96EECBDE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2C6-C702-4571-B9AA-4DA7F438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A4CB0-FB99-4064-86A5-8C057159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3E8E6-FCD4-4E0C-A3F1-BA9A05A8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5978D-2E10-4382-86DB-437FC17A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359BD-BC0E-4DBD-88A0-A022D804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E1088-1844-497A-85D8-06701812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A5D51-B9C0-4B65-9495-68EC747B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55F1F-6FC4-411D-B901-C1F4EDB7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DCC5F-4BF7-4655-80CB-31F0CF01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CCBDB-3297-4227-956B-6405B394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A1417-CC07-4CFD-B9BA-12023E7D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AE5-82BE-49D3-9BED-53BF8B07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C4857-8D57-46F0-8D8C-339B1EA9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EA9ED-1569-4F6D-A71B-1603D10F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35719-52A2-4F4C-9814-7A344EA4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98749-0484-4794-BEC1-BA19F864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E86A2-54DC-498B-B82C-F1423EBC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28390-3FEC-4143-B96F-01B42D2C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BA734-BBEB-429D-99F9-61A9FFB8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B3DAE-0355-42D7-8B00-11BCD43C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10A30-5FF6-4AE7-BBCD-D28FB5F3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C6312-91A2-4D27-9F3C-1CC201E1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F95-84BA-4D00-97A7-0DB95A32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8AD20-9BFD-442D-BDEB-0E423235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6A068-FA87-4687-81F3-D2B9AB08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879D5-C185-4618-9B58-80658409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E98AB-6AF3-4F23-A071-4F6EC969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4E4ED-7BC3-4A7C-8E4F-E3D66AE3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79298-7B95-4AAC-AB63-EC22257F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425E7-7912-4D7A-8BE6-01D30038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5888B-03AD-4D2E-B0A1-38378B91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7706F-4C55-495F-A99F-5126C0E6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D07B9-1175-4CA0-A604-4DE9826B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B04-492D-447D-BB52-57F567C4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8E27A-B016-42CB-9C29-DAC08D42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F03E5-7D70-497B-A684-4F2F23A9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15594-3348-4246-AC11-2116154E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16BD3-8E4D-4E3F-981A-C246C1BC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0524F-9E4B-47AA-B194-7354E126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71632-C914-42CC-B726-EC4D3BA4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38BE0-8442-4BF9-B576-7F576B15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8D878-8E50-4BA5-A5D7-704C77D8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6E379-2708-4FE7-9D53-56629C87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11D25-7A19-470F-885B-DD59C887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DC6-064F-4793-BC6A-DE4EC77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15A60-AD71-4BEB-B72E-BC862215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D1F8B-847E-4E1E-ABBC-621F42A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6E821-565A-444F-8C8A-AF85B0EE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9F265-E743-40A5-BCA7-9BE3475B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5E048-63A0-4F1A-A4A2-2E37C53B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8EE6D-105E-4D6A-8536-2125CFB9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DF935-2EB5-400A-8304-02717527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02D6D-6FA3-4AB0-9F69-1812FC6E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6B3DB-A12B-4715-A5D3-7218C837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F3749-4564-4F70-9501-914D83D6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F073-3FA9-425F-A9F0-36EFD6EB65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E38F531-0DA3-4298-847B-61E8E5F43E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C0D3-1CF2-4DFE-8735-8680B7231D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4ECAE51-70FD-4041-9A63-19E9EAF4BD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E4A8-918B-422F-81ED-2547C68ABE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E5757D2-7CF7-4CF2-BB67-77F18928B2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F80D-4569-4D6A-91FE-5CB816B02C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FF1245C-E39D-4650-8431-413B3183AD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72D5-D41E-42CF-93C3-6FDF4916F1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96385055-F330-4B15-870A-422C982389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7E68-03C7-42A8-9919-42412310AF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32BEA79-CEF2-42BC-A499-CE09FC6E50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BE9D-DD06-45C4-BFC6-4177424EEDC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877A515-DDC9-4367-8BD7-65BBEB997F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99B1-6FFB-4DFA-9428-1111E58AAC8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C26F4B1-5956-4D12-8093-92DAEED52E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5056-3191-413E-8C50-703074C922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964BB16-3503-4CE4-8DD8-18EDA6E5F0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D83-B4AE-4FA7-8A84-1C20502D75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D59990A-EDA9-44A6-A767-267321C56E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BEDA-CD34-4F8C-AF8A-BCBB9032CC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4028F5C-DFE6-4D9B-8AE6-8FCD4498F2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0B2B-43AC-49FA-84C7-60D26DD1377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8076F58-E5D7-43DE-85C4-D95387C9E9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CE03-C072-46BB-A267-65D7D9065F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4B238963-1B6E-4689-8DB0-4D5668DD4B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arduino.cc/en/Tutorial/MasterWriter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arduino.cc/en/Tutorial/MasterReader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8000" y="2619000"/>
            <a:ext cx="8945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400" spc="-1" strike="noStrike">
                <a:solidFill>
                  <a:srgbClr val="000000"/>
                </a:solidFill>
                <a:latin typeface="Gill Sans MT"/>
              </a:rPr>
              <a:t>Σειριακά Πρωτόκολλα Επικοινωνίας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Τρόπος λειτουργίας 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C Bu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57" name="3 - Εικόνα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500040" y="857160"/>
            <a:ext cx="8001000" cy="1643040"/>
          </a:xfrm>
          <a:prstGeom prst="rect">
            <a:avLst/>
          </a:prstGeom>
          <a:ln w="0">
            <a:noFill/>
          </a:ln>
        </p:spPr>
      </p:pic>
      <p:sp>
        <p:nvSpPr>
          <p:cNvPr id="558" name="4 - TextBox"/>
          <p:cNvSpPr/>
          <p:nvPr/>
        </p:nvSpPr>
        <p:spPr>
          <a:xfrm>
            <a:off x="428760" y="2476440"/>
            <a:ext cx="8286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ώντας μια ανταλλαγή δεδομένων 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δημιουργεί μια κατάσταση έναρξης, τοποθετώντας τ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DA p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χαμηλότερα σε σχέση με τ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L pin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Ύστερα 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μεταδίδει την διεύθυνση της συσκευής με την οποία θέλει να επικοινωνήσει στέλνοντας κάθ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t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της διεύθυνσης σε 7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t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 Παρατηρήστε το σήμα ρολογιού (SCL) εναλλάσσεται για κάθε κομμάτι της διεύθυνσης.             Κατ’ αυτόν τον τρόπο ο δίαυλος καταλαβαίνει με ποια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επιθυμεί να επικοινωνήσει 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μέσως μετά την αποστολή της διεύθυνσης 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στέλνει ένα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e bit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το οποίο καθορίζει εάν θα σταλούν δεδομένα στην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ή θα διαβαστούν δεδομένα από αυτή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Έπειτα 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ή  μεταδίδει δεδομένα προς την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είτε στέλνει την διεύθυνση του καταχωρητή της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ς από την οποία θέλει να αποκτήσει δεδομένα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Τέλος,  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θα διακόψει την επικοινωνία τοποθετώντας τ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DA p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ψηλότερα, όπου ακριβώς βρίσκεται τ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L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I2C communic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0" name="5 - Θέση περιεχομένου" descr="Untitled2.jpg"/>
          <p:cNvPicPr/>
          <p:nvPr/>
        </p:nvPicPr>
        <p:blipFill>
          <a:blip r:embed="rId1"/>
          <a:stretch/>
        </p:blipFill>
        <p:spPr>
          <a:xfrm>
            <a:off x="1295280" y="4648320"/>
            <a:ext cx="2548080" cy="2209680"/>
          </a:xfrm>
          <a:prstGeom prst="rect">
            <a:avLst/>
          </a:prstGeom>
          <a:ln w="0">
            <a:noFill/>
          </a:ln>
        </p:spPr>
      </p:pic>
      <p:pic>
        <p:nvPicPr>
          <p:cNvPr id="561" name="6 - Εικόνα" descr="Untitled3.jpg"/>
          <p:cNvPicPr/>
          <p:nvPr/>
        </p:nvPicPr>
        <p:blipFill>
          <a:blip r:embed="rId2"/>
          <a:stretch/>
        </p:blipFill>
        <p:spPr>
          <a:xfrm>
            <a:off x="3886200" y="4648320"/>
            <a:ext cx="4549680" cy="2209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0" descr="Image result for i2c arduino pullup"/>
          <p:cNvPicPr/>
          <p:nvPr/>
        </p:nvPicPr>
        <p:blipFill>
          <a:blip r:embed="rId3"/>
          <a:stretch/>
        </p:blipFill>
        <p:spPr>
          <a:xfrm>
            <a:off x="4572000" y="1504800"/>
            <a:ext cx="4572000" cy="2533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Image result for i2c arduino pullup"/>
          <p:cNvPicPr/>
          <p:nvPr/>
        </p:nvPicPr>
        <p:blipFill>
          <a:blip r:embed="rId4"/>
          <a:stretch/>
        </p:blipFill>
        <p:spPr>
          <a:xfrm>
            <a:off x="457200" y="1371600"/>
            <a:ext cx="38419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I2C communic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Βιβλιοθήκη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ire.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ins A4 for SDA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και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A5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SC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Μπορούμε να αλλάξουμε την ταχύτητα επικοινωνίας μ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BR = 1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για 40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Hz(max), 32-&gt;200kHz, 72-&gt;100kHz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ault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κτλ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Μηνύματα μέχρι μήκους 3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ieveEvent() &amp; requestEvent()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είναι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R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όποτε πρέπει να αποφεύγονται τ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ays, serial prints,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ο πολύς κώδικας, άλλ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rupts.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Χρήσ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μεταβλητώ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atile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1519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ff0000"/>
                </a:solidFill>
                <a:latin typeface="Comic Sans MS"/>
              </a:rPr>
              <a:t>//ΜΑΣΤΕΡ</a:t>
            </a:r>
            <a:r>
              <a:rPr b="0" lang="en-A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#include &lt;Wire.h&gt;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void 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</a:rPr>
              <a:t>setup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() {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 Wire.begin(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byte x = 0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void 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() 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ire.beginTransmission(8); </a:t>
            </a:r>
            <a:r>
              <a:rPr b="0" lang="en-AU" sz="1800" spc="-1" strike="noStrike">
                <a:solidFill>
                  <a:srgbClr val="ff0000"/>
                </a:solidFill>
                <a:latin typeface="Comic Sans MS"/>
              </a:rPr>
              <a:t>//to slave #8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 Wire.write("x is ");    </a:t>
            </a:r>
            <a:r>
              <a:rPr b="0" i="1" lang="en-AU" sz="1800" spc="-1" strike="noStrike">
                <a:solidFill>
                  <a:srgbClr val="ff0000"/>
                </a:solidFill>
                <a:latin typeface="Comic Sans MS"/>
              </a:rPr>
              <a:t>// sends five bytes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 Wire.write(x);            </a:t>
            </a:r>
            <a:r>
              <a:rPr b="0" i="1" lang="en-AU" sz="1800" spc="-1" strike="noStrike">
                <a:solidFill>
                  <a:srgbClr val="ff0000"/>
                </a:solidFill>
                <a:latin typeface="Comic Sans MS"/>
              </a:rPr>
              <a:t>// sends one byte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 Wire.endTransmission();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 x++;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 delay(500);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I2C communication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Master Write </a:t>
            </a:r>
            <a:r>
              <a:rPr b="1" lang="en-US" sz="4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Slave Read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2 - Θέση περιεχομένου"/>
          <p:cNvSpPr/>
          <p:nvPr/>
        </p:nvSpPr>
        <p:spPr>
          <a:xfrm>
            <a:off x="457200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1500" spc="-1" strike="noStrike">
                <a:solidFill>
                  <a:srgbClr val="ff0000"/>
                </a:solidFill>
                <a:latin typeface="Comic Sans MS"/>
              </a:rPr>
              <a:t>//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SLAVE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#include &lt;Wire.h&gt;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 </a:t>
            </a:r>
            <a:r>
              <a:rPr b="1" lang="en-AU" sz="1500" spc="-1" strike="noStrike">
                <a:solidFill>
                  <a:srgbClr val="000000"/>
                </a:solidFill>
                <a:latin typeface="Comic Sans MS"/>
              </a:rPr>
              <a:t>setup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() 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begin(8);  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join i2c with address #8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onReceive(receiveEvent); 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register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    event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 Serial.begin(9600);        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 </a:t>
            </a:r>
            <a:r>
              <a:rPr b="1" lang="en-AU" sz="15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() 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 delay(100);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 receiveEvent(int howMany) 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 while (1 &lt; Wire.available()) { 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  char c = Wire.read()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  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Serial.print(c);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 }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 int x = Wire.read();   </a:t>
            </a:r>
            <a:r>
              <a:rPr b="0" i="1" lang="en-AU" sz="15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receive byte as int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 Serial.println(x); 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5 - TextBox">
            <a:hlinkClick r:id="rId1"/>
          </p:cNvPr>
          <p:cNvSpPr/>
          <p:nvPr/>
        </p:nvSpPr>
        <p:spPr>
          <a:xfrm>
            <a:off x="3657600" y="586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70c0"/>
                </a:solidFill>
                <a:uFillTx/>
                <a:latin typeface="Comic Sans MS"/>
              </a:rPr>
              <a:t>Link to 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-152280" y="160020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1500" spc="-1" strike="noStrike">
                <a:solidFill>
                  <a:srgbClr val="ff0000"/>
                </a:solidFill>
                <a:latin typeface="Comic Sans MS"/>
              </a:rPr>
              <a:t>//ΜΑΣΤΕΡ</a:t>
            </a:r>
            <a:r>
              <a:rPr b="0" lang="en-AU" sz="15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#include &lt;Wire.h&gt;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 </a:t>
            </a:r>
            <a:r>
              <a:rPr b="1" lang="en-AU" sz="1500" spc="-1" strike="noStrike">
                <a:solidFill>
                  <a:srgbClr val="000000"/>
                </a:solidFill>
                <a:latin typeface="Comic Sans MS"/>
              </a:rPr>
              <a:t>setup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() 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begin();    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join i2c bus (address </a:t>
            </a:r>
            <a:r>
              <a:rPr b="0" i="1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optional for master)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Serial.begin(9600)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 </a:t>
            </a:r>
            <a:r>
              <a:rPr b="1" lang="en-AU" sz="15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() 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requestFrom(8, 6); 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request 6         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              bytes from slave device #8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hile (Wire.available()) {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slave may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                  send less than requested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  char c = Wire.read();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receive a byte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   as character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  Serial.print(c); 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}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delay(500);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I2C communication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Slave Write </a:t>
            </a:r>
            <a:r>
              <a:rPr b="1" lang="en-US" sz="4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Master Read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2" name="2 - Θέση περιεχομένου"/>
          <p:cNvSpPr/>
          <p:nvPr/>
        </p:nvSpPr>
        <p:spPr>
          <a:xfrm>
            <a:off x="396252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1500" spc="-1" strike="noStrike">
                <a:solidFill>
                  <a:srgbClr val="ff0000"/>
                </a:solidFill>
                <a:latin typeface="Comic Sans MS"/>
              </a:rPr>
              <a:t>//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SLAVE</a:t>
            </a:r>
            <a:r>
              <a:rPr b="0" lang="en-AU" sz="15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#include &lt;Wire.h&gt;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 </a:t>
            </a:r>
            <a:r>
              <a:rPr b="1" lang="en-AU" sz="1500" spc="-1" strike="noStrike">
                <a:solidFill>
                  <a:srgbClr val="000000"/>
                </a:solidFill>
                <a:latin typeface="Comic Sans MS"/>
              </a:rPr>
              <a:t>setup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() 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begin(8);      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join i2c bus with address #8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onRequest(requestEvent);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register event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 </a:t>
            </a:r>
            <a:r>
              <a:rPr b="1" lang="en-AU" sz="15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() 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delay(100);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br>
              <a:rPr sz="1500"/>
            </a:br>
            <a:br>
              <a:rPr sz="1500"/>
            </a:b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function that executes whenever data is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      requested by master</a:t>
            </a:r>
            <a:br>
              <a:rPr sz="1500"/>
            </a:b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this function is registered as an event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 requestEvent() 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write("hello _");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msg of 6 bytes as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       expected by master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5 - TextBox">
            <a:hlinkClick r:id="rId1"/>
          </p:cNvPr>
          <p:cNvSpPr/>
          <p:nvPr/>
        </p:nvSpPr>
        <p:spPr>
          <a:xfrm>
            <a:off x="3657600" y="586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70c0"/>
                </a:solidFill>
                <a:uFillTx/>
                <a:latin typeface="Comic Sans MS"/>
              </a:rPr>
              <a:t>Link to 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Πρωτόκολλο  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SPI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160280"/>
            <a:ext cx="822960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rial Peripheral Interface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 είναι πρωτόκολλο σύγχρονης σειριακή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επικοινωνίας το οποίο επιτρέπει στα δεδομένα να ανταλλάζονται ανάμεσα σε 2 γραμμές επικοινωνίας. Το συγκεκριμένο πρωτόκολλο χρησιμεύει στη μεταφορά δεδομένων συνήθως από έναν κεντρικό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crocontroller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 σε άλλες περιφερειακές συσκευές όπω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sors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Στο πρωτόκολλο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I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 υπάρχει πάντα μία συσκευή η οποία ελέγχει τη ροή της επικοινωνίας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ter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) με τις υπόλοιπες συσκευές που επικοινωνεί ( slav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). Υπάρχει μία γραμμή ξεχωριστή για το ρολόι , άλλες δύο για τα δεδομένα και μία τρίτη για την επιλογή της συσκευής που επιθυμούμε να επικοινωνήσουμ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6" name="Picture 6" descr="C:\Users\Jas\Desktop\viomixanikoi\381px-SPI_single_slave.svg.png"/>
          <p:cNvPicPr/>
          <p:nvPr/>
        </p:nvPicPr>
        <p:blipFill>
          <a:blip r:embed="rId1"/>
          <a:stretch/>
        </p:blipFill>
        <p:spPr>
          <a:xfrm>
            <a:off x="1285920" y="2500200"/>
            <a:ext cx="60008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6429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l-GR" sz="2300" spc="-1" strike="noStrike">
                <a:solidFill>
                  <a:srgbClr val="000000"/>
                </a:solidFill>
                <a:latin typeface="Gill Sans MT"/>
              </a:rPr>
              <a:t>SCLK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: Σειριακό ρολόι (output από τη συσκευή Master)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ο ρολόι δίνει ένα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αλαντωμένο σήμα το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οποίο λέει στον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παραλήπτη πότε να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πάρει δείγμα από τα bit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που υπάρχουν στη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γραμμή των δεδομένων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Άρα όταν το ρολόι δίνει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σήμα high γίνεται η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δειγματοληψία από την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γραμμή των δεδομένων και αντίστοιχα όταν είναι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low (0) δεν παίρνουμε κάποιο δείγμα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8" name="Picture 4" descr="C:\Users\Jas\Desktop\viomixanikoi\52ddb2d8ce395fad638b4567.png"/>
          <p:cNvPicPr/>
          <p:nvPr/>
        </p:nvPicPr>
        <p:blipFill>
          <a:blip r:embed="rId1"/>
          <a:stretch/>
        </p:blipFill>
        <p:spPr>
          <a:xfrm>
            <a:off x="3929040" y="1428840"/>
            <a:ext cx="4214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58860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MOSI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: Master Output, Slave Input (output </a:t>
            </a: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από τη συσκευή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ster)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MISO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: Master Input, Slave Output (output </a:t>
            </a: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από την συσκευή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lave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Στη περίπτωση που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επικοινωνεί η 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er </a:t>
            </a: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συσκευή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με την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lave </a:t>
            </a: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τότε ενεργοποιείται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το σήμα του ρολογιού και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στέλνει την ακολουθία μέσω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της γραμμής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OSI .</a:t>
            </a: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Εάν τώρα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η slave συσκευή χρειαστεί να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στείλει μία απάντηση στη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Master τότε θα γίνει μέσω της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γραμμής MISO αφού η MOSI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είναι ήδη απασχολημένη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0" name="Picture 5" descr="C:\Users\Jas\Desktop\viomixanikoi\52ddb2dbce395fae408b4568.png"/>
          <p:cNvPicPr/>
          <p:nvPr/>
        </p:nvPicPr>
        <p:blipFill>
          <a:blip r:embed="rId1"/>
          <a:stretch/>
        </p:blipFill>
        <p:spPr>
          <a:xfrm>
            <a:off x="4286160" y="1946160"/>
            <a:ext cx="4071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7" descr="C:\Users\Jas\Desktop\viomixanikoi\52ddb2dcce395fed638b4567.png"/>
          <p:cNvPicPr/>
          <p:nvPr/>
        </p:nvPicPr>
        <p:blipFill>
          <a:blip r:embed="rId1"/>
          <a:stretch/>
        </p:blipFill>
        <p:spPr>
          <a:xfrm>
            <a:off x="4357800" y="1357200"/>
            <a:ext cx="4276440" cy="4143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>
                <a:solidFill>
                  <a:srgbClr val="000000"/>
                </a:solidFill>
                <a:latin typeface="Gill Sans MT"/>
              </a:rPr>
              <a:t>SS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: Επιλογή δευτερεύοντων συσκεύων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Είναι η γραμμή που «ξυπνάει»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ην συσκευή slave όταν πρέπει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να στείλει ή να λάβει δεδομένα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ή στη περίπτωση που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έχουμε παραπάνω από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μία συσκευές slave είναι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η γραμμή που θα κάνει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ην επιλογή της συγκεκριμένης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συσκευής. Στη δεύτερη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περίπτωση (εαν έχουμε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δλδ πολλές συσκευές slave) χρησιμοποιείται για κάθε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συσκεύη ξεχωριστή γραμμή 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Εισαγωγή</a:t>
            </a:r>
            <a:br>
              <a:rPr sz="4000"/>
            </a:b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5712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Gill Sans MT"/>
              </a:rPr>
              <a:t>Σειριακή Επικοινωνία :</a:t>
            </a:r>
            <a:r>
              <a:rPr b="0" lang="el-GR" sz="2000" spc="-1" strike="noStrike">
                <a:solidFill>
                  <a:srgbClr val="000000"/>
                </a:solidFill>
                <a:latin typeface="Gill Sans MT"/>
              </a:rPr>
              <a:t> Είναι η επικοινωνία κατά την οποία τα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ts</a:t>
            </a:r>
            <a:r>
              <a:rPr b="0" lang="el-GR" sz="2000" spc="-1" strike="noStrike">
                <a:solidFill>
                  <a:srgbClr val="000000"/>
                </a:solidFill>
                <a:latin typeface="Gill Sans MT"/>
              </a:rPr>
              <a:t> της πληροφορίας μεταδίδονται ένα κάθε φορά, στη σειρά, μέσα από έναν αγωγό μεταφοράς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l-GR" sz="1900" spc="-1" strike="noStrike">
                <a:solidFill>
                  <a:srgbClr val="000000"/>
                </a:solidFill>
                <a:latin typeface="Gill Sans MT"/>
              </a:rPr>
              <a:t>Ασύγχρονη σειριακή μετάδοση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Μορφή σήματος στην ασύγχρονη σειριακή μετάδοση χαρακτήρα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tart bit, bits </a:t>
            </a: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χαρακτήρα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, Parity bit, Stop bi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6" name="Picture 9" descr=""/>
          <p:cNvPicPr/>
          <p:nvPr/>
        </p:nvPicPr>
        <p:blipFill>
          <a:blip r:embed="rId1"/>
          <a:stretch/>
        </p:blipFill>
        <p:spPr>
          <a:xfrm>
            <a:off x="1000080" y="2773440"/>
            <a:ext cx="6143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Εισαγωγή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42884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l-GR" sz="1900" spc="-1" strike="noStrike">
                <a:solidFill>
                  <a:srgbClr val="000000"/>
                </a:solidFill>
                <a:latin typeface="Gill Sans MT"/>
              </a:rPr>
              <a:t>Σύγχρονη σειριακή μετάδοση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Στη σύγχρονη σειριακή μετάδοση έχουμε καλύτερη εκμετάλλευση του εύρους του καναλιού επικοινωνίας, αφού τα δεδομένα ομαδοποιούνται σε μεγάλα πακέτα δεδομένων, χωρίς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tart</a:t>
            </a: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 και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top bits</a:t>
            </a: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 στην αρχή και στο τέλος κάθε χαρακτήρα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Picture 10" descr=""/>
          <p:cNvPicPr/>
          <p:nvPr/>
        </p:nvPicPr>
        <p:blipFill>
          <a:blip r:embed="rId1"/>
          <a:stretch/>
        </p:blipFill>
        <p:spPr>
          <a:xfrm>
            <a:off x="1214280" y="2143080"/>
            <a:ext cx="6143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Πρωτόκολλο 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UART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 (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RS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232) 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100160"/>
            <a:ext cx="497196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ART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versal Asynchronous Receiver/Transmitter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είναι ένα από τα πιο γνωστά πρότυπα για την σειριακή μετάδοση δυαδικών σημάτων δεδομένων μεταξύ συστημάτων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7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ο πρότυπο αυτό καθορίζει τα χαρακτηριστικά της επικοινωνίας μεταξύ ενός υπολογιστή και μιας περιφερειακής μονάδας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όπως για παράδειγμα ένα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Modem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7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2" name="3 - Εικόνα" descr="09082-03-L.jpg"/>
          <p:cNvPicPr/>
          <p:nvPr/>
        </p:nvPicPr>
        <p:blipFill>
          <a:blip r:embed="rId1"/>
          <a:stretch/>
        </p:blipFill>
        <p:spPr>
          <a:xfrm>
            <a:off x="5500800" y="107172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543" name="5 - Εικόνα" descr="rs232_cable.png"/>
          <p:cNvPicPr/>
          <p:nvPr/>
        </p:nvPicPr>
        <p:blipFill>
          <a:blip r:embed="rId2"/>
          <a:stretch/>
        </p:blipFill>
        <p:spPr>
          <a:xfrm>
            <a:off x="1876320" y="4214880"/>
            <a:ext cx="5481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Χαρακτηριστικά 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UART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 (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RS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232)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428840"/>
            <a:ext cx="82296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Η μέγιστη ταχύτητα που υποστηρίζει μια θύρα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RS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232 (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Recommended Standard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232 ) είναι 115.2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kbps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ο πρωτόκολλο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ART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επιτρέπει την ασύγχρονη σειριακή επικοινωνία ανάμεσα σε δύο συσκευές.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Εάν επιθυμούμε να συνδέσουμε περισσότερες από δύο συσκευές σε έναν υπολογιστή, χρειαζόμαστε περισσότερες από μία σειριακές θύρες.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Αμφίδρομη επικοινωνία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Διαθέτει δυο γραμμές: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a)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Γραμμή Μεταφοράς δεδομένων (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TX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b)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Γραμμή Λήψης δεδομένων (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RX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c)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α σήματα του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RS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232 περιλαμβάνουν σήματα για την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μεταφορά των δεδομένων και σήματα ελέγχου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Τρόπος λειτουργίας 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UART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 (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RS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232)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71360" y="1071360"/>
            <a:ext cx="6715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Gill Sans MT"/>
              </a:rPr>
              <a:t>Το παρακάτω διάγραμμα δείχνει ένα σενάριο αποστολής 8 bit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8" name="3 - Εικόνα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85880" y="1500120"/>
            <a:ext cx="7572240" cy="1643040"/>
          </a:xfrm>
          <a:prstGeom prst="rect">
            <a:avLst/>
          </a:prstGeom>
          <a:ln w="0">
            <a:noFill/>
          </a:ln>
        </p:spPr>
      </p:pic>
      <p:sp>
        <p:nvSpPr>
          <p:cNvPr id="549" name="4 - TextBox"/>
          <p:cNvSpPr/>
          <p:nvPr/>
        </p:nvSpPr>
        <p:spPr>
          <a:xfrm>
            <a:off x="571680" y="3165480"/>
            <a:ext cx="7858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Ο αποστολέας ξεκινά την μετάδοση προσθέτοντας στην αρχή ένα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bit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, σκοπός του οποίου είναι ο συγχρονισμός του παραλήπτη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Ο παραλήπτης, ο οποίος ελέγχει περιοδικά τη γραμμή, εντοπίζει τ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bit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και ξεκινά μετά από χρόνο Τ/2 (όπου Τ ισούται με τον ονομαστικό χρόνο κάθ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t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) την δειγματοληψία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λέξη συμπληρώνεται προαιρετικά από ένα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ity bit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, το οποίο χρησιμοποιείται για την ανίχνευση και διόρθωση λαθώ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μετάδοση ολοκληρώνεται με την αποστολή 0, 1, 1.5 ή 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p bit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 Τα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t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αυτά εξασφαλίζουν ότι η γραμμή θα είναι για κάποιο διάστημα σε υψηλή κατάσταση πριν το επόμεν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bit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 Επίσης δίνουν ένα περιθώριο χρόνου στον παραλήπτη (π.χ. για αποθήκευση της λέξης), πριν την έναρξη της επόμενης μεταφορά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99"/>
                </a:solidFill>
                <a:latin typeface="Gill Sans MT"/>
              </a:rPr>
              <a:t>Πρωτόκολλο </a:t>
            </a:r>
            <a:r>
              <a:rPr b="1" lang="en-US" sz="40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1" lang="el-GR" sz="4000" spc="-1" strike="noStrike">
                <a:solidFill>
                  <a:srgbClr val="000099"/>
                </a:solidFill>
                <a:latin typeface="Gill Sans MT"/>
              </a:rPr>
              <a:t>2</a:t>
            </a:r>
            <a:r>
              <a:rPr b="1" lang="en-US" sz="4000" spc="-1" strike="noStrike">
                <a:solidFill>
                  <a:srgbClr val="000099"/>
                </a:solidFill>
                <a:latin typeface="Gill Sans MT"/>
              </a:rPr>
              <a:t>C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ο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C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Inter-Integrated Circuit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Bus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αποτελεί ένα πρωτόκολλο που χρησιμοποιείται για την διασύνδεση μεταξύ διαφορετικών ολοκληρωμένων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συστημάτων, όπως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ικροελεγκτών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λοκληρωμένων περιφερειακών,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όπως αισθητήρες πίεσης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συσκευές εικόνας και ήχου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εταδίδει δεδομένα σειριακά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Οι ταχύτητες τις οποίες επιτυγχάνει μπορούν να φτάσουν μέχρι και 3.4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Mbps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μετάδοσης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Χαρακτηριστικά του 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C Bu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760" y="149976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ο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υλοποιείται με την χρήση δύο καλωδίων διπλής κατεύθυνσης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7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α δύο καλώδια αυτά είναι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7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SDA (Serial Data)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που χρησιμοποιείται για την μεταφορά δεδομένων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SCL (Serial Clock)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που χρησιμοποιείται για τον συγχρονισμό των συσκευών που θα ανταλλάξουν δεδομένα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4" name="3 - Εικόνα" descr="i2c-diagram.png"/>
          <p:cNvPicPr/>
          <p:nvPr/>
        </p:nvPicPr>
        <p:blipFill>
          <a:blip r:embed="rId1"/>
          <a:stretch/>
        </p:blipFill>
        <p:spPr>
          <a:xfrm>
            <a:off x="1214280" y="3929040"/>
            <a:ext cx="64278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C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Είναι οι γραμμή μέσω της οποίας μεταφέρονται οι παλμοί του ρολογιού, οι οποίοι παλμοί χρησιμοποιούνται για τον συγχρονισμό των συσκευών που θα ανταλλάξουν δεδομένα μεταξύ τους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Αυτή είναι η γραμμή δεδομένων που χρησιμοποιούνται για την ανταλλαγή δεδομένων μεταξύ των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ster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και των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laves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συσκευών. Όπου μια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ster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συσκευή αποφασίζει για τις λειτουργίες που επιτελούνται πάνω στο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ενώ μια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lave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συσκευή ανταποκρίνεται στις αιτήσεις της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ster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. Λόγω του ότι μπορούν να χρησιμοποιηθούν πολλές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lave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συσκευές στην ίδια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DA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γραμμή, το πρωτόκολλο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χρησιμοποιεί την μέθοδο της διευθυνσιοδότησης των συσκευών για τον συντονισμό της κυκλοφορίας στη γραμμή δεδομένων. Κάθε δευτερεύουσα συσκευή διαθέτει μια μοναδική διεύθυνση πάνω στη γραμμή η οποία καθορίζεται από τον κατασκευαστή προκειμένου να αποφεύγονται πιθανές συγκρούσεις μεταξύ των συσκευών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65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spyros panagiotakis</cp:lastModifiedBy>
  <cp:lastPrinted>2014-12-05T19:20:01Z</cp:lastPrinted>
  <dcterms:modified xsi:type="dcterms:W3CDTF">2023-04-28T13:10:21Z</dcterms:modified>
  <cp:revision>359</cp:revision>
  <dc:subject/>
  <dc:title>Chapter 6 slides, Computer Networking, 3rd edition</dc:title>
</cp:coreProperties>
</file>