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CE2-81D9-4174-B2C0-B775AC4D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701-2DA3-4952-B544-988E50DD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EE9C5-A4B3-4A53-B82A-D998F79C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6941E-AE6F-479E-898D-5D382D48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1DAC0-DDBB-49DE-9E4D-C1C54256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D4028-62D8-4110-8138-987DF198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F5870-F55B-498E-9E0D-2C70296D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346EB-C98B-4220-BA94-C9982DDB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A2443-E733-4CB3-A619-9080A267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4B075-AC5B-42C6-8E8A-FCA52183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5F644-BA03-48AF-84C7-BAA77D4C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30C9D-AEA8-49EE-B574-BE7C55D6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DAB-BCE9-4DF1-8007-90E4CD71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CA7D4-0262-48AC-B724-B4EABEA1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CA062-8A88-40E0-AA28-48DC1C2C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D4782-FAD3-4465-A385-3C765621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EC292-2B1F-44E4-8FC7-661D3D44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3302A-7F6C-4802-A9CF-93895EAB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6AF8D-A13E-479A-BFAC-53613F6E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3D99F-FB7C-4CBC-83DC-B638959D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B322C-33A9-4254-8634-F8C303C8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A0799-3435-4A27-9B73-D63BE980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DA5B1-7F7C-475C-BC7B-7ABADD16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01B-9683-4746-839E-8F7D6A5C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B5EBB-42DE-43E7-8139-3BF5046B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3FE33-51CA-40A8-9910-126B37AF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21545-FC6C-4881-A794-5B013020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B6ABB-8425-4DC1-A6BD-D6D7261B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DB351-4498-450E-9C39-900A3B33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50E13-6E67-4E50-A113-331203E7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38C61-69F3-4863-A745-5456CE77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FC5B7-E23E-4766-8EAB-4E4DA1E9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A7876-A348-488E-BCC1-47340C45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F43CF-9E3D-4281-AF0D-77BB0DC2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30A2-5DB2-47E8-A0DA-35815DAA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AEAB3-7DE7-4F78-8F29-BD4F40DB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472AC-7993-4A18-B56E-A4875EED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D2D4F-8B67-4734-86F6-6448F052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31104-C3D2-40C0-AA87-AF0A574D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DB57B-06B0-429D-B621-09522E6E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E7413-331B-40BF-905E-A6C74FE2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586DD-2246-4D9E-AEBA-9A7D80A0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C3872-D9D7-4976-A59D-53608548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7E96D-5B53-4109-84A0-52CFFFE0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F7324-FA2F-4298-B23C-7EDA98A2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D753-F6A6-4474-88EC-08745367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198DF-E777-47DC-B2EE-B32C35BC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FF2B7-B6CA-4641-94E5-51CA4025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00BC1-CA3B-45C3-B1CB-D9850DF4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A448A-D60F-4FE8-8F50-B42DC3BC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75BBB-B90A-4BB5-9F77-FADFAC86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4F8C-D5F5-48A2-A014-90ACDED8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4C46-C95C-4898-902E-40B7034B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3DD5-DA79-46F0-93AF-16A4A3BD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7BC6-012F-4FB3-BAE1-E6B90C36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4F92-6D56-41FC-AD10-B4A6962B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411-5291-4FFC-B56F-1A2E2739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82F2-380C-4A3F-BDC4-536F80B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2AEB-B7B0-4324-9BB4-C26DA7EE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0441-5455-4E9A-950C-D9DFB071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CAFC-4241-40C3-8BE5-0CEA5621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52A1-1A85-4E0A-B3A9-6332E26B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D639B-3260-4DEC-BBAB-22C94502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987F1-556F-499E-A996-65E9D4E2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2690-90B4-4C5B-8AD9-7F6F0F9A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E1E0-8B2D-487D-9D6E-C5830D88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1655-9BD7-4D13-AA62-B2FA78D8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30D-53B0-47FE-A5B4-3C397614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AC58-F0E5-4DD7-9BE7-784BAA02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B2124-4FF4-473F-8E4F-BB62DACB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9645-6D77-4648-AAEE-0C010CE0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01709-AF9D-47C4-B337-46126C09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30B84-C392-43FB-8595-AC92738F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9F1E-A9C7-431D-9630-47142762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5782-AD29-4213-8613-5234E4EC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E0BD3-992D-4E68-90D8-D809043A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F3D3B-6D21-404B-A232-213403CD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139A-CC60-4932-B9D3-D0B31441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2BE-E8D6-4A72-A7D4-5B3C6C1A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14C6A-FFA2-4AA6-B9C0-D0DB8EF3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AF76-35A7-44C7-BD80-AB13CE04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7C888-C92B-4DF2-81A8-97722BCB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ADE58-47EA-470F-9CBE-1BA25095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EE182-3923-48FA-9782-B24DA764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90121-AA86-4B3F-9194-6BAA6504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F2517-76BF-4165-9EE0-42BBAE16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071E2-9C0E-4D79-873C-F48B504E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FE055-126C-4A9E-AB01-53D1A0A7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EC59E-4906-41B4-9BCB-C1840DB3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F89-F59D-4F3E-B371-835EB78E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5F0C9-C1DD-40D9-AB12-2AD5E066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BB605-6CE1-44BB-9693-033A09DC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5B325-9213-4304-A21A-84850F16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0A16D-A5E2-4DD8-81BE-3B2EAC6B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03548-83CC-429A-A186-D6312307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38268-F573-401A-A4B6-9EB601C1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82FAA-76C6-4CC8-A9A5-DC333A73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B5080-5113-4F20-9F6C-432E75B4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D873F-4395-4794-B9E1-F46A205C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CD64D-449C-46D7-8B3F-83A6D0B3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1FE-59A3-4219-9B4D-5A1EBFAE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38F21-60EE-47B0-BFFB-9AAB8D77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DEEF0-4286-4848-BCD3-2A3E3817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2ACC5-DEEE-40D6-8C47-CC331DE1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EB842-D105-45B1-9A94-B7BFC93B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CE9C1-27B1-4A31-8289-40232EA4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D9123-7A39-4615-B12D-E4B5031B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E5C70-4871-4252-AA03-2F1A3982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56843-6A86-4E38-B111-16EEC32E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37930-D550-4A28-A793-9D5D32A0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A3CB6-F526-4FC3-B5D0-AE2DDD8C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189-DD10-44EA-949A-DB95B7CB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36F2E-91DE-433B-AF67-A5879DC8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21754-B176-44D2-8B82-3C9440A9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B8C42-ABB6-41DD-B518-470FC116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83A01-A403-4342-B015-2B335288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0B28D-6C44-4F57-891D-F5497189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1A79A-E203-4507-9E8D-BB60C351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8ADFE-BD5F-4775-BDBA-3B414B6D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BECDE-D428-4573-9AAC-5FB8649B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898FE-495D-42E6-9CF2-5C6F7F2F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EC005-ED61-4EC2-8E1F-8B9ACB9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3D2-DE34-472A-83C9-746525F7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976F9-AEFD-4F4E-8A66-8A9B16DD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B09B3-C3C7-405E-B457-479DE260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EC853-22AD-4644-B870-39DB856E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B0DC6-1AF5-43A1-BF73-41143AFA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B3854-996B-46AA-ADF0-95A394F7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A6329-2C7F-44FA-9B3E-3813CA37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5FC1D-88E5-423A-995E-FC96FC6F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45EB8-EDFE-4C05-85AB-011826A8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F4D1B-3D78-4B98-9197-5C3D2D24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FE187-1897-4214-A7AC-9A1C875F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7CB-07FF-4F84-8BBF-7F3B241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0EB8D-012D-48DB-8607-7978C555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A86FE-9C45-40D6-ACB1-C7C799CF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88268-CE1D-4EE9-B302-253960FD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D5C50-5D51-475B-A071-3CF7FDC6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A8591-87A1-4D17-A343-83CBEB3D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62A4A-DAED-4592-90F0-41C30008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85922-8474-42FA-A70A-4A32424A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F6B29-A45C-487F-AF47-3C7145A7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D9082-C912-4A0E-8AD5-3D81F83D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26208-13F7-44F8-A6FC-B3D8485F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A9AA-D520-420C-8690-F9319A68B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0611-CD61-41DD-A0F4-F95FD6DAF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D308-37A9-4983-BC79-BC96BB564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F679-8900-429D-BFE1-F77EDC6D2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1DD3-76B7-4025-816B-731BCFEDC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2DBC-CC27-40FC-8C27-475182A39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5395-EF3E-4DCE-9D04-1502911F7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97FF-05D3-4506-91F1-454FE50A8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067F-9EE4-404D-9710-0FAE811D3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0F22-4275-4178-B8B1-EFC9DD5DD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71B3-CDB4-4A16-B30C-B4DF530EA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B0A6-220D-4664-BD81-48CB248D9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directory tre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4"/>
          <p:cNvSpPr/>
          <p:nvPr/>
        </p:nvSpPr>
        <p:spPr>
          <a:xfrm>
            <a:off x="4191120" y="1295280"/>
            <a:ext cx="914400" cy="457200"/>
          </a:xfrm>
          <a:prstGeom prst="ellipse">
            <a:avLst/>
          </a:prstGeom>
          <a:solidFill>
            <a:srgbClr val="9df7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5"/>
          <p:cNvSpPr/>
          <p:nvPr/>
        </p:nvSpPr>
        <p:spPr>
          <a:xfrm>
            <a:off x="685800" y="21337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6"/>
          <p:cNvSpPr/>
          <p:nvPr/>
        </p:nvSpPr>
        <p:spPr>
          <a:xfrm>
            <a:off x="2895480" y="21337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7"/>
          <p:cNvSpPr/>
          <p:nvPr/>
        </p:nvSpPr>
        <p:spPr>
          <a:xfrm>
            <a:off x="5105520" y="2133720"/>
            <a:ext cx="914400" cy="457200"/>
          </a:xfrm>
          <a:prstGeom prst="ellipse">
            <a:avLst/>
          </a:prstGeom>
          <a:solidFill>
            <a:srgbClr val="9df7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8"/>
          <p:cNvSpPr/>
          <p:nvPr/>
        </p:nvSpPr>
        <p:spPr>
          <a:xfrm>
            <a:off x="7315200" y="21337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609480" y="2971800"/>
            <a:ext cx="11430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3"/>
          <p:cNvSpPr/>
          <p:nvPr/>
        </p:nvSpPr>
        <p:spPr>
          <a:xfrm flipV="1">
            <a:off x="11430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4"/>
          <p:cNvSpPr/>
          <p:nvPr/>
        </p:nvSpPr>
        <p:spPr>
          <a:xfrm>
            <a:off x="2819520" y="3048120"/>
            <a:ext cx="11430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e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5"/>
          <p:cNvSpPr/>
          <p:nvPr/>
        </p:nvSpPr>
        <p:spPr>
          <a:xfrm flipV="1">
            <a:off x="3352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6"/>
          <p:cNvSpPr/>
          <p:nvPr/>
        </p:nvSpPr>
        <p:spPr>
          <a:xfrm>
            <a:off x="5867280" y="2514600"/>
            <a:ext cx="914400" cy="457200"/>
          </a:xfrm>
          <a:prstGeom prst="ellipse">
            <a:avLst/>
          </a:prstGeom>
          <a:solidFill>
            <a:srgbClr val="9df7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7"/>
          <p:cNvSpPr/>
          <p:nvPr/>
        </p:nvSpPr>
        <p:spPr>
          <a:xfrm>
            <a:off x="5486400" y="3581280"/>
            <a:ext cx="914400" cy="457200"/>
          </a:xfrm>
          <a:prstGeom prst="ellipse">
            <a:avLst/>
          </a:prstGeom>
          <a:solidFill>
            <a:srgbClr val="9df7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18"/>
          <p:cNvSpPr/>
          <p:nvPr/>
        </p:nvSpPr>
        <p:spPr>
          <a:xfrm>
            <a:off x="4419720" y="25146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9"/>
          <p:cNvSpPr/>
          <p:nvPr/>
        </p:nvSpPr>
        <p:spPr>
          <a:xfrm>
            <a:off x="4724280" y="4114800"/>
            <a:ext cx="914400" cy="457200"/>
          </a:xfrm>
          <a:prstGeom prst="ellipse">
            <a:avLst/>
          </a:prstGeom>
          <a:solidFill>
            <a:srgbClr val="9df7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1"/>
          <p:cNvSpPr/>
          <p:nvPr/>
        </p:nvSpPr>
        <p:spPr>
          <a:xfrm>
            <a:off x="5867280" y="25146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2"/>
          <p:cNvSpPr/>
          <p:nvPr/>
        </p:nvSpPr>
        <p:spPr>
          <a:xfrm flipH="1">
            <a:off x="1523880" y="1676520"/>
            <a:ext cx="2743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3"/>
          <p:cNvSpPr/>
          <p:nvPr/>
        </p:nvSpPr>
        <p:spPr>
          <a:xfrm flipH="1">
            <a:off x="3505320" y="17524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4"/>
          <p:cNvSpPr/>
          <p:nvPr/>
        </p:nvSpPr>
        <p:spPr>
          <a:xfrm>
            <a:off x="480060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5"/>
          <p:cNvSpPr/>
          <p:nvPr/>
        </p:nvSpPr>
        <p:spPr>
          <a:xfrm>
            <a:off x="5105520" y="1600200"/>
            <a:ext cx="2361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26"/>
          <p:cNvSpPr/>
          <p:nvPr/>
        </p:nvSpPr>
        <p:spPr>
          <a:xfrm>
            <a:off x="6553080" y="41148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7"/>
          <p:cNvSpPr/>
          <p:nvPr/>
        </p:nvSpPr>
        <p:spPr>
          <a:xfrm>
            <a:off x="4572000" y="4724280"/>
            <a:ext cx="1447920" cy="1981440"/>
          </a:xfrm>
          <a:prstGeom prst="rect">
            <a:avLst/>
          </a:prstGeom>
          <a:solidFill>
            <a:srgbClr val="9df7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devic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i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28"/>
          <p:cNvSpPr/>
          <p:nvPr/>
        </p:nvSpPr>
        <p:spPr>
          <a:xfrm>
            <a:off x="7696080" y="28195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29"/>
          <p:cNvSpPr/>
          <p:nvPr/>
        </p:nvSpPr>
        <p:spPr>
          <a:xfrm>
            <a:off x="7848720" y="35812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0"/>
          <p:cNvSpPr/>
          <p:nvPr/>
        </p:nvSpPr>
        <p:spPr>
          <a:xfrm>
            <a:off x="6324480" y="4724280"/>
            <a:ext cx="14479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acce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std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1"/>
          <p:cNvSpPr/>
          <p:nvPr/>
        </p:nvSpPr>
        <p:spPr>
          <a:xfrm flipV="1">
            <a:off x="5257800" y="45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2"/>
          <p:cNvSpPr/>
          <p:nvPr/>
        </p:nvSpPr>
        <p:spPr>
          <a:xfrm>
            <a:off x="701028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4"/>
          <p:cNvSpPr/>
          <p:nvPr/>
        </p:nvSpPr>
        <p:spPr>
          <a:xfrm flipH="1">
            <a:off x="5334120" y="396252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5"/>
          <p:cNvSpPr/>
          <p:nvPr/>
        </p:nvSpPr>
        <p:spPr>
          <a:xfrm>
            <a:off x="6248520" y="39625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6"/>
          <p:cNvSpPr/>
          <p:nvPr/>
        </p:nvSpPr>
        <p:spPr>
          <a:xfrm>
            <a:off x="7924680" y="25909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7"/>
          <p:cNvSpPr/>
          <p:nvPr/>
        </p:nvSpPr>
        <p:spPr>
          <a:xfrm>
            <a:off x="8229600" y="32767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8"/>
          <p:cNvSpPr/>
          <p:nvPr/>
        </p:nvSpPr>
        <p:spPr>
          <a:xfrm>
            <a:off x="8001000" y="5105520"/>
            <a:ext cx="914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9"/>
          <p:cNvSpPr/>
          <p:nvPr/>
        </p:nvSpPr>
        <p:spPr>
          <a:xfrm>
            <a:off x="8305920" y="4038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40"/>
          <p:cNvSpPr/>
          <p:nvPr/>
        </p:nvSpPr>
        <p:spPr>
          <a:xfrm>
            <a:off x="7924680" y="43434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6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1"/>
          <p:cNvSpPr/>
          <p:nvPr/>
        </p:nvSpPr>
        <p:spPr>
          <a:xfrm>
            <a:off x="83818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42"/>
          <p:cNvSpPr/>
          <p:nvPr/>
        </p:nvSpPr>
        <p:spPr>
          <a:xfrm flipH="1">
            <a:off x="5181480" y="2514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43"/>
          <p:cNvSpPr/>
          <p:nvPr/>
        </p:nvSpPr>
        <p:spPr>
          <a:xfrm>
            <a:off x="5257800" y="2971800"/>
            <a:ext cx="914400" cy="457200"/>
          </a:xfrm>
          <a:prstGeom prst="ellipse">
            <a:avLst/>
          </a:prstGeom>
          <a:solidFill>
            <a:srgbClr val="9df7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4"/>
          <p:cNvSpPr/>
          <p:nvPr/>
        </p:nvSpPr>
        <p:spPr>
          <a:xfrm flipH="1">
            <a:off x="5867280" y="28954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45"/>
          <p:cNvSpPr/>
          <p:nvPr/>
        </p:nvSpPr>
        <p:spPr>
          <a:xfrm>
            <a:off x="5791320" y="3429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linux/netdevice.h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header-file where you will find the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 net_dev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 definition (and the ‘struct net_device_stats’ definition as w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f you want to see how ‘struct sk_buff’ is defined, then look in &lt;linux/skbuff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The kernel developers often move structure-definitions to different headers in new versions of the kernel source-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‘netdevs.c’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create a Loadable Kernel Module that lets us see current information stored in the kernel’s data-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example-module ‘netdevs.c’ does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eeds a special command-sequence to be compiled, then a special command to be installed as a ‘live’ add-on our running Linux operating system’s kern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make.cpp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ownload this utility-program from our cs686 website and compile it with g++,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cp  /home/web/cruse/cs686/mmake.cpp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g++  mmake.cpp  –o m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you can use it to automate the steps required for compiling an LKM,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./mmake  netde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/sbin/insmod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compiled our ‘netdevs.c’ source-file, you will have a kernel-object file named ‘netdevs.ko’ and you can use the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m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command to install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 /sbin/insmod  netdevs.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is installed, this LKM creates a pseudo-file (in the ‘/proc’ directory) that you can send to your screen with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cat  /proc/netde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/sbin/rmmod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ecide you would like to modify the output from your ‘/proc/netdevs’ file, you can remove ‘netdevs.ko’ from the kernel, edit the module’s source-code, recompile the ‘netdevs.c’ file with ‘mmake’, and then install the new version of ‘netdevs.ko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/sbin/rmmod  netdevs.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ercis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output shown by ‘/proc/netdevs’ so that the current state of each interface (i.e.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ill get dis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The kernel uses a status-bit in the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field of a ‘struct net_device’ object to keep track of whether the device is now ‘up’ or ‘down’ (compare ‘/sbin/ifconfig –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the header-file &lt;linux/if.h&gt; to find out how bits of the ‘flags’ field a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coding approach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to write your solution for in-class exercise #1 is to add a line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 different solution which produces the same effect avoids the ‘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f-e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con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685800" y="2666880"/>
            <a:ext cx="76960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 dev-&gt;flags &amp; IFF_UP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 += sprintf( buf+len, “UP”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 += sprintf( buf+len, “DOWN “ 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85800" y="4876920"/>
            <a:ext cx="76960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state[ 2 ] = { “DOWN”, “UP” }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an array of string-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 += sprintf( buf+len, “%s”, state[ dev-&gt;flags &amp; IFF_UP ]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ercis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output produced when you execute the Linux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conf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ome added item of information about our station’s network interfaces (from the ‘ifconfig’ output) and see if you can enhance our ‘netdevs.c’ demo so it’s pseudo-file will display that extra item of information (e.g., dev-&gt;stats.tx_by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‘net_device’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at the main kernel-object concerned with a Linux system’s network interface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nsolidatio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d software developers usually  employ a ‘locality of reference’ strategy to simplify design and maintenance of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inciple says: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Things which logically are related should be kept 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ly, all the information that the system needs to keep track of about a network interface is put into a single 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 net_device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2362320" y="2743200"/>
            <a:ext cx="129528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609480" y="190512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1295280" y="190512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55040" y="1600200"/>
            <a:ext cx="155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_base_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207880" y="243828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 net_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4572000" y="2743200"/>
            <a:ext cx="129528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0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4417920" y="243828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 net_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6781680" y="2743200"/>
            <a:ext cx="129564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1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6"/>
          <p:cNvSpPr/>
          <p:nvPr/>
        </p:nvSpPr>
        <p:spPr>
          <a:xfrm>
            <a:off x="6627600" y="2438280"/>
            <a:ext cx="15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 net_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7"/>
          <p:cNvSpPr/>
          <p:nvPr/>
        </p:nvSpPr>
        <p:spPr>
          <a:xfrm>
            <a:off x="1066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8"/>
          <p:cNvSpPr/>
          <p:nvPr/>
        </p:nvSpPr>
        <p:spPr>
          <a:xfrm>
            <a:off x="35053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792468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"/>
          <p:cNvSpPr/>
          <p:nvPr/>
        </p:nvSpPr>
        <p:spPr>
          <a:xfrm flipH="1">
            <a:off x="1980720" y="22096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2"/>
          <p:cNvSpPr/>
          <p:nvPr/>
        </p:nvSpPr>
        <p:spPr>
          <a:xfrm>
            <a:off x="106668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3"/>
          <p:cNvSpPr/>
          <p:nvPr/>
        </p:nvSpPr>
        <p:spPr>
          <a:xfrm flipV="1">
            <a:off x="8610480" y="22093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4"/>
          <p:cNvSpPr/>
          <p:nvPr/>
        </p:nvSpPr>
        <p:spPr>
          <a:xfrm flipH="1">
            <a:off x="36572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6"/>
          <p:cNvSpPr/>
          <p:nvPr/>
        </p:nvSpPr>
        <p:spPr>
          <a:xfrm flipH="1">
            <a:off x="914040" y="3809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7"/>
          <p:cNvSpPr/>
          <p:nvPr/>
        </p:nvSpPr>
        <p:spPr>
          <a:xfrm flipV="1">
            <a:off x="914400" y="23619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8"/>
          <p:cNvSpPr/>
          <p:nvPr/>
        </p:nvSpPr>
        <p:spPr>
          <a:xfrm>
            <a:off x="1905120" y="2057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9"/>
          <p:cNvSpPr/>
          <p:nvPr/>
        </p:nvSpPr>
        <p:spPr>
          <a:xfrm>
            <a:off x="8763120" y="2057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0"/>
          <p:cNvSpPr/>
          <p:nvPr/>
        </p:nvSpPr>
        <p:spPr>
          <a:xfrm flipH="1">
            <a:off x="807696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1"/>
          <p:cNvSpPr/>
          <p:nvPr/>
        </p:nvSpPr>
        <p:spPr>
          <a:xfrm>
            <a:off x="571500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2"/>
          <p:cNvSpPr/>
          <p:nvPr/>
        </p:nvSpPr>
        <p:spPr>
          <a:xfrm flipH="1">
            <a:off x="58672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4"/>
          <p:cNvSpPr/>
          <p:nvPr/>
        </p:nvSpPr>
        <p:spPr>
          <a:xfrm>
            <a:off x="460080" y="5029200"/>
            <a:ext cx="18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About 90 sepa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fields belong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each ‘net_devic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member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doubly-link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5"/>
          <p:cNvSpPr/>
          <p:nvPr/>
        </p:nvSpPr>
        <p:spPr>
          <a:xfrm flipV="1">
            <a:off x="3048120" y="5638320"/>
            <a:ext cx="0" cy="83844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6"/>
          <p:cNvSpPr/>
          <p:nvPr/>
        </p:nvSpPr>
        <p:spPr>
          <a:xfrm flipH="1">
            <a:off x="1294920" y="6477120"/>
            <a:ext cx="586764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7"/>
          <p:cNvSpPr/>
          <p:nvPr/>
        </p:nvSpPr>
        <p:spPr>
          <a:xfrm flipV="1">
            <a:off x="5105520" y="5638320"/>
            <a:ext cx="0" cy="83844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38"/>
          <p:cNvSpPr/>
          <p:nvPr/>
        </p:nvSpPr>
        <p:spPr>
          <a:xfrm flipV="1">
            <a:off x="7162920" y="5638320"/>
            <a:ext cx="0" cy="83844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w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380880" y="1447920"/>
            <a:ext cx="845820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net_de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[ IFNAMSIZ ]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index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             /* inteface index *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igned 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u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/* maximum transmission uni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igned 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_addr[ MAX_ADDR_LEN ];  /* hardware addr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ip_pointer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* points to IF’s IPv4 specific data *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igned 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igned 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_start;        /* time (in jiffies) of last transmission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net_device_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s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* a default set of device statistic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ome function-pointers (i.e., these are ‘virtual’ fun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open)( struct net_device *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stop)( struct net_device *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hard_start_xmit)( struct sk_buff *, struct net_device * 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get_stats)( struct net_device *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nal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‘struct net_device’ kernel-objects play a similar role for network device-drivers as is played by ‘struct file_operations’ objects with regard to character device-driv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ogy isn’t perfect (i.e., key differ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990720" y="3657600"/>
            <a:ext cx="32004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see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ctl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5029200" y="3733920"/>
            <a:ext cx="32004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p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_start_xmi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_stats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_mac_address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_ioctl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841320" y="327672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file_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4879080" y="335268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net_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 net_device_stats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the ‘net_device’ object contains a sub-structure for storing device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09480" y="2971800"/>
            <a:ext cx="807732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 net_device_s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lo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_packets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total packets received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lo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_packets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total packets transmitted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lo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_bytes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total bytes received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lo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_bytes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total bytes transmitted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lo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_errors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bad packets received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lo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_errors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packet transmit problems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 sk_buff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the ‘net_device’ object also has a member-field which can hold a pointer to to a kernel-object of type ‘struct sk_buff’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3886200" y="3733920"/>
            <a:ext cx="19810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038480" y="4191120"/>
            <a:ext cx="16765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4038480" y="5715000"/>
            <a:ext cx="1676520" cy="76320"/>
          </a:xfrm>
          <a:prstGeom prst="rect">
            <a:avLst/>
          </a:prstGeom>
          <a:solidFill>
            <a:srgbClr val="a1fd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038480" y="5791320"/>
            <a:ext cx="1676520" cy="75960"/>
          </a:xfrm>
          <a:prstGeom prst="rect">
            <a:avLst/>
          </a:prstGeom>
          <a:solidFill>
            <a:srgbClr val="a1fd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4038480" y="5867280"/>
            <a:ext cx="1676520" cy="76320"/>
          </a:xfrm>
          <a:prstGeom prst="rect">
            <a:avLst/>
          </a:prstGeom>
          <a:solidFill>
            <a:srgbClr val="a1fd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4038480" y="5943600"/>
            <a:ext cx="1676520" cy="76320"/>
          </a:xfrm>
          <a:prstGeom prst="rect">
            <a:avLst/>
          </a:prstGeom>
          <a:solidFill>
            <a:srgbClr val="a1fd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0"/>
          <p:cNvSpPr/>
          <p:nvPr/>
        </p:nvSpPr>
        <p:spPr>
          <a:xfrm>
            <a:off x="4038480" y="6019920"/>
            <a:ext cx="1676520" cy="75960"/>
          </a:xfrm>
          <a:prstGeom prst="rect">
            <a:avLst/>
          </a:prstGeom>
          <a:solidFill>
            <a:srgbClr val="a1fd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1143000" y="3733920"/>
            <a:ext cx="9144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2"/>
          <p:cNvSpPr/>
          <p:nvPr/>
        </p:nvSpPr>
        <p:spPr>
          <a:xfrm flipV="1">
            <a:off x="42670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4"/>
          <p:cNvSpPr/>
          <p:nvPr/>
        </p:nvSpPr>
        <p:spPr>
          <a:xfrm flipV="1">
            <a:off x="44197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 flipV="1">
            <a:off x="45720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6"/>
          <p:cNvSpPr/>
          <p:nvPr/>
        </p:nvSpPr>
        <p:spPr>
          <a:xfrm flipV="1">
            <a:off x="47242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7"/>
          <p:cNvSpPr/>
          <p:nvPr/>
        </p:nvSpPr>
        <p:spPr>
          <a:xfrm flipV="1">
            <a:off x="48769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8"/>
          <p:cNvSpPr/>
          <p:nvPr/>
        </p:nvSpPr>
        <p:spPr>
          <a:xfrm flipV="1">
            <a:off x="50292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9"/>
          <p:cNvSpPr/>
          <p:nvPr/>
        </p:nvSpPr>
        <p:spPr>
          <a:xfrm flipV="1">
            <a:off x="51814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0"/>
          <p:cNvSpPr/>
          <p:nvPr/>
        </p:nvSpPr>
        <p:spPr>
          <a:xfrm flipV="1">
            <a:off x="53341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1"/>
          <p:cNvSpPr/>
          <p:nvPr/>
        </p:nvSpPr>
        <p:spPr>
          <a:xfrm flipV="1">
            <a:off x="54864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3"/>
          <p:cNvSpPr/>
          <p:nvPr/>
        </p:nvSpPr>
        <p:spPr>
          <a:xfrm>
            <a:off x="426708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4"/>
          <p:cNvSpPr/>
          <p:nvPr/>
        </p:nvSpPr>
        <p:spPr>
          <a:xfrm>
            <a:off x="45720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5"/>
          <p:cNvSpPr/>
          <p:nvPr/>
        </p:nvSpPr>
        <p:spPr>
          <a:xfrm>
            <a:off x="48769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6"/>
          <p:cNvSpPr/>
          <p:nvPr/>
        </p:nvSpPr>
        <p:spPr>
          <a:xfrm>
            <a:off x="518148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7"/>
          <p:cNvSpPr/>
          <p:nvPr/>
        </p:nvSpPr>
        <p:spPr>
          <a:xfrm>
            <a:off x="5486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8"/>
          <p:cNvSpPr/>
          <p:nvPr/>
        </p:nvSpPr>
        <p:spPr>
          <a:xfrm>
            <a:off x="1905120" y="3886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9"/>
          <p:cNvSpPr/>
          <p:nvPr/>
        </p:nvSpPr>
        <p:spPr>
          <a:xfrm>
            <a:off x="3719160" y="33894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sk_bu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rnel’s header-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rnel is written in C (with occasional uses of some ‘inline’ assembly langu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source-code for our Linux kernel is in this system directory: &lt;/usr/src/linux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eader-files are in &lt;…/include/linux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header-files that are CPU-specific are in &lt;…/include/as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6:33:56Z</dcterms:created>
  <dc:creator>CRUSE</dc:creator>
  <dc:description/>
  <dc:language>en-US</dc:language>
  <cp:lastModifiedBy>Miltos Grammatikakis</cp:lastModifiedBy>
  <dcterms:modified xsi:type="dcterms:W3CDTF">2023-10-29T20:05:23Z</dcterms:modified>
  <cp:revision>46</cp:revision>
  <dc:subject/>
  <dc:title>Slide 1</dc:title>
</cp:coreProperties>
</file>