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15.png" ContentType="image/png"/>
  <Override PartName="/ppt/media/image6.png" ContentType="image/png"/>
  <Override PartName="/ppt/media/image10.wmf" ContentType="image/x-wmf"/>
  <Override PartName="/ppt/media/image2.png" ContentType="image/png"/>
  <Override PartName="/ppt/media/image1.jpeg" ContentType="image/jpeg"/>
  <Override PartName="/ppt/media/image7.png" ContentType="image/png"/>
  <Override PartName="/ppt/media/image11.wmf" ContentType="image/x-wmf"/>
  <Override PartName="/ppt/media/image3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72288" cy="10061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72400" cy="1006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6872400" cy="10061640"/>
          </a:xfrm>
          <a:custGeom>
            <a:avLst/>
            <a:gdLst>
              <a:gd name="textAreaLeft" fmla="*/ 360 w 6872400"/>
              <a:gd name="textAreaRight" fmla="*/ 6872040 w 6872400"/>
              <a:gd name="textAreaTop" fmla="*/ 360 h 10061640"/>
              <a:gd name="textAreaBottom" fmla="*/ 10061280 h 10061640"/>
            </a:gdLst>
            <a:ahLst/>
            <a:rect l="textAreaLeft" t="textAreaTop" r="textAreaRight" b="textAreaBottom"/>
            <a:pathLst>
              <a:path w="21600" h="31623">
                <a:moveTo>
                  <a:pt x="4" y="0"/>
                </a:moveTo>
                <a:arcTo wR="4" hR="4" stAng="16200000" swAng="-5400000"/>
                <a:lnTo>
                  <a:pt x="0" y="31619"/>
                </a:lnTo>
                <a:arcTo wR="4" hR="4" stAng="10800000" swAng="-5400000"/>
                <a:lnTo>
                  <a:pt x="21596" y="3162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76480" cy="501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l-GR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header&gt;</a:t>
            </a:r>
            <a:r>
              <a:rPr b="0" lang="el-GR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ΚΕΑ Ρεθύμνο-Σεμινάριο για τις ΑΠΕ και τα Φ/Β Συστήματα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95560" y="0"/>
            <a:ext cx="2978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Img"/>
          </p:nvPr>
        </p:nvSpPr>
        <p:spPr>
          <a:xfrm>
            <a:off x="922320" y="755280"/>
            <a:ext cx="5027760" cy="3770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915480" y="4778280"/>
            <a:ext cx="5040360" cy="45259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0" y="9558000"/>
            <a:ext cx="2976480" cy="501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l-GR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l-GR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r>
              <a:rPr b="0" lang="el-GR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Αντιστροφείς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3895200" y="9558000"/>
            <a:ext cx="2976840" cy="501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l-GR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ABCC13E-846B-49F5-A06B-476291FFE2D9}" type="slidenum">
              <a:rPr b="0" lang="el-GR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0"/>
            <a:ext cx="2978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l-GR" sz="1300" spc="-1" strike="noStrike">
                <a:solidFill>
                  <a:srgbClr val="000000"/>
                </a:solidFill>
                <a:latin typeface="Times New Roman"/>
              </a:rPr>
              <a:t>ΚΕΑ Ρεθύμνο-Σεμινάριο για τις ΑΠΕ και τα Φ/Β Συστήματα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l-GR" sz="1300" spc="-1" strike="noStrike">
                <a:solidFill>
                  <a:srgbClr val="000000"/>
                </a:solidFill>
                <a:latin typeface="Times New Roman"/>
              </a:rPr>
              <a:t>Αντιστροφείς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9556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A45571A-6BF1-4863-A04D-A6E5B99A059D}" type="slidenum">
              <a:rPr b="0" lang="el-G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22320" y="75564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5840" y="4773600"/>
            <a:ext cx="5042160" cy="695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  <a:ea typeface="Microsoft YaHe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3"/>
          <p:cNvSpPr/>
          <p:nvPr/>
        </p:nvSpPr>
        <p:spPr>
          <a:xfrm>
            <a:off x="3894120" y="0"/>
            <a:ext cx="297828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t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0297082E-6EF7-40FF-8F6F-122EA260112F}" type="datetime">
              <a:rPr b="0" i="1" lang="el-GR" sz="1000" spc="-1" strike="noStrike">
                <a:solidFill>
                  <a:srgbClr val="000000"/>
                </a:solidFill>
                <a:latin typeface="Times New Roman"/>
                <a:ea typeface="Tahoma"/>
              </a:rPr>
              <a:t>31/07/26</a:t>
            </a:fld>
            <a:r>
              <a:rPr b="0" i="1" lang="el-GR" sz="1000" spc="-1" strike="noStrike">
                <a:solidFill>
                  <a:srgbClr val="000000"/>
                </a:solidFill>
                <a:latin typeface="Times New Roman"/>
                <a:ea typeface="Tahoma"/>
              </a:rPr>
              <a:t>10 Dec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0" y="0"/>
            <a:ext cx="297828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t">
            <a:noAutofit/>
          </a:bodyPr>
          <a:p>
            <a:pPr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i="1" lang="el-GR" sz="1000" spc="-1" strike="noStrike">
                <a:solidFill>
                  <a:srgbClr val="000000"/>
                </a:solidFill>
                <a:latin typeface="Times New Roman"/>
                <a:ea typeface="Tahoma"/>
              </a:rPr>
              <a:t>DISTRES Trial Run -Module 3: Local specificities and best practice at MED Count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3894120" y="0"/>
            <a:ext cx="297828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t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i="1" lang="el-GR" sz="1000" spc="-1" strike="noStrike">
                <a:solidFill>
                  <a:srgbClr val="000000"/>
                </a:solidFill>
                <a:latin typeface="Times New Roman"/>
                <a:ea typeface="Tahoma"/>
              </a:rPr>
              <a:t>10 Dec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0" y="9555120"/>
            <a:ext cx="297828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i="1" lang="el-GR" sz="1000" spc="-1" strike="noStrike">
                <a:solidFill>
                  <a:srgbClr val="000000"/>
                </a:solidFill>
                <a:latin typeface="Times New Roman"/>
                <a:ea typeface="Tahoma"/>
              </a:rPr>
              <a:t>Unit 3.2: EU &amp; MED Countries Targe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3894120" y="9555120"/>
            <a:ext cx="297828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EBFD053B-84F0-469B-8165-1AE344716EF3}" type="slidenum">
              <a:rPr b="0" i="1" lang="en-US" sz="10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3894120" y="9555120"/>
            <a:ext cx="297828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501B574E-FC83-4B95-803C-1CFD41269362}" type="slidenum">
              <a:rPr b="0" i="1" lang="en-US" sz="10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677880" y="820800"/>
            <a:ext cx="5402160" cy="405108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899640" y="5148360"/>
            <a:ext cx="4945320" cy="489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0"/>
            <a:ext cx="2978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l-GR" sz="1300" spc="-1" strike="noStrike">
                <a:solidFill>
                  <a:srgbClr val="000000"/>
                </a:solidFill>
                <a:latin typeface="Times New Roman"/>
              </a:rPr>
              <a:t>ΚΕΑ Ρεθύμνο-Σεμινάριο για τις ΑΠΕ και τα Φ/Β Συστήματα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l-GR" sz="1300" spc="-1" strike="noStrike">
                <a:solidFill>
                  <a:srgbClr val="000000"/>
                </a:solidFill>
                <a:latin typeface="Times New Roman"/>
              </a:rPr>
              <a:t>Αντιστροφείς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9556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2313DD-058B-4553-905C-4EB403330F0F}" type="slidenum">
              <a:rPr b="0" lang="el-G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22320" y="75564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5840" y="4773600"/>
            <a:ext cx="5042160" cy="695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  <a:ea typeface="Microsoft YaHe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0"/>
            <a:ext cx="2978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l-GR" sz="1300" spc="-1" strike="noStrike">
                <a:solidFill>
                  <a:srgbClr val="000000"/>
                </a:solidFill>
                <a:latin typeface="Times New Roman"/>
              </a:rPr>
              <a:t>ΚΕΑ Ρεθύμνο-Σεμινάριο για τις ΑΠΕ και τα Φ/Β Συστήματα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l-GR" sz="1300" spc="-1" strike="noStrike">
                <a:solidFill>
                  <a:srgbClr val="000000"/>
                </a:solidFill>
                <a:latin typeface="Times New Roman"/>
              </a:rPr>
              <a:t>Αντιστροφείς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9556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DEABFC8-D0E4-4752-8F41-13017E00C465}" type="slidenum">
              <a:rPr b="0" lang="el-G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22320" y="75564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5840" y="4773600"/>
            <a:ext cx="5042160" cy="695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  <a:ea typeface="Microsoft YaHe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0"/>
            <a:ext cx="2978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l-GR" sz="1300" spc="-1" strike="noStrike">
                <a:solidFill>
                  <a:srgbClr val="000000"/>
                </a:solidFill>
                <a:latin typeface="Times New Roman"/>
              </a:rPr>
              <a:t>ΚΕΑ Ρεθύμνο-Σεμινάριο για τις ΑΠΕ και τα Φ/Β Συστήματα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l-GR" sz="1300" spc="-1" strike="noStrike">
                <a:solidFill>
                  <a:srgbClr val="000000"/>
                </a:solidFill>
                <a:latin typeface="Times New Roman"/>
              </a:rPr>
              <a:t>Αντιστροφείς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9556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2B89F1B-F93B-4825-911E-C80987DF819B}" type="slidenum">
              <a:rPr b="0" lang="el-G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22320" y="75564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5840" y="4773600"/>
            <a:ext cx="5042160" cy="695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  <a:ea typeface="Microsoft YaHe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2978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l-GR" sz="1300" spc="-1" strike="noStrike">
                <a:solidFill>
                  <a:srgbClr val="000000"/>
                </a:solidFill>
                <a:latin typeface="Times New Roman"/>
              </a:rPr>
              <a:t>ΚΕΑ Ρεθύμνο-Σεμινάριο για τις ΑΠΕ και τα Φ/Β Συστήματα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l-GR" sz="1300" spc="-1" strike="noStrike">
                <a:solidFill>
                  <a:srgbClr val="000000"/>
                </a:solidFill>
                <a:latin typeface="Times New Roman"/>
              </a:rPr>
              <a:t>Αντιστροφείς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9556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427BD57-8A75-442A-A38B-177A07ACB7DF}" type="slidenum">
              <a:rPr b="0" lang="el-G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22320" y="75564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5840" y="4773600"/>
            <a:ext cx="5042160" cy="695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  <a:ea typeface="Microsoft YaHe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2978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l-GR" sz="1300" spc="-1" strike="noStrike">
                <a:solidFill>
                  <a:srgbClr val="000000"/>
                </a:solidFill>
                <a:latin typeface="Times New Roman"/>
              </a:rPr>
              <a:t>ΚΕΑ Ρεθύμνο-Σεμινάριο για τις ΑΠΕ και τα Φ/Β Συστήματα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l-GR" sz="1300" spc="-1" strike="noStrike">
                <a:solidFill>
                  <a:srgbClr val="000000"/>
                </a:solidFill>
                <a:latin typeface="Times New Roman"/>
              </a:rPr>
              <a:t>Αντιστροφείς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9556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2AF0A08-45C4-4F4A-BF8C-5746556E0E30}" type="slidenum">
              <a:rPr b="0" lang="el-G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22320" y="75564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773600"/>
            <a:ext cx="5042160" cy="695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  <a:ea typeface="Microsoft YaHe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2978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l-GR" sz="1300" spc="-1" strike="noStrike">
                <a:solidFill>
                  <a:srgbClr val="000000"/>
                </a:solidFill>
                <a:latin typeface="Times New Roman"/>
              </a:rPr>
              <a:t>ΚΕΑ Ρεθύμνο-Σεμινάριο για τις ΑΠΕ και τα Φ/Β Συστήματα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l-GR" sz="1300" spc="-1" strike="noStrike">
                <a:solidFill>
                  <a:srgbClr val="000000"/>
                </a:solidFill>
                <a:latin typeface="Times New Roman"/>
              </a:rPr>
              <a:t>Αντιστροφείς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9556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D4C3784-40B9-4F29-A735-ACAC789E953E}" type="slidenum">
              <a:rPr b="0" lang="el-G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22320" y="75564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5840" y="4773600"/>
            <a:ext cx="5042160" cy="695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  <a:ea typeface="Microsoft YaHe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0"/>
            <a:ext cx="2978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l-GR" sz="1300" spc="-1" strike="noStrike">
                <a:solidFill>
                  <a:srgbClr val="000000"/>
                </a:solidFill>
                <a:latin typeface="Times New Roman"/>
              </a:rPr>
              <a:t>ΚΕΑ Ρεθύμνο-Σεμινάριο για τις ΑΠΕ και τα Φ/Β Συστήματα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l-GR" sz="1300" spc="-1" strike="noStrike">
                <a:solidFill>
                  <a:srgbClr val="000000"/>
                </a:solidFill>
                <a:latin typeface="Times New Roman"/>
              </a:rPr>
              <a:t>Αντιστροφείς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9556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02CFAE4-04E1-405C-9FAD-46278AC66315}" type="slidenum">
              <a:rPr b="0" lang="el-G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22320" y="75564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5840" y="4773600"/>
            <a:ext cx="5042160" cy="695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  <a:ea typeface="Microsoft YaHe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2978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l-GR" sz="1300" spc="-1" strike="noStrike">
                <a:solidFill>
                  <a:srgbClr val="000000"/>
                </a:solidFill>
                <a:latin typeface="Times New Roman"/>
              </a:rPr>
              <a:t>ΚΕΑ Ρεθύμνο-Σεμινάριο για τις ΑΠΕ και τα Φ/Β Συστήματα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l-GR" sz="1300" spc="-1" strike="noStrike">
                <a:solidFill>
                  <a:srgbClr val="000000"/>
                </a:solidFill>
                <a:latin typeface="Times New Roman"/>
              </a:rPr>
              <a:t>Αντιστροφείς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9556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414F72F-9E90-4CB9-B074-337F06FC74F1}" type="slidenum">
              <a:rPr b="0" lang="el-G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22320" y="75564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5840" y="4773600"/>
            <a:ext cx="5042160" cy="695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  <a:ea typeface="Microsoft YaHe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2978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l-GR" sz="1300" spc="-1" strike="noStrike">
                <a:solidFill>
                  <a:srgbClr val="000000"/>
                </a:solidFill>
                <a:latin typeface="Times New Roman"/>
              </a:rPr>
              <a:t>ΚΕΑ Ρεθύμνο-Σεμινάριο για τις ΑΠΕ και τα Φ/Β Συστήματα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l-GR" sz="1300" spc="-1" strike="noStrike">
                <a:solidFill>
                  <a:srgbClr val="000000"/>
                </a:solidFill>
                <a:latin typeface="Times New Roman"/>
              </a:rPr>
              <a:t>Αντιστροφείς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9556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5EC144D-C298-49CA-81FC-ABFAA751397D}" type="slidenum">
              <a:rPr b="0" lang="el-G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22320" y="75564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773600"/>
            <a:ext cx="5042160" cy="695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  <a:ea typeface="Microsoft YaHe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0"/>
            <a:ext cx="2978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l-GR" sz="1300" spc="-1" strike="noStrike">
                <a:solidFill>
                  <a:srgbClr val="000000"/>
                </a:solidFill>
                <a:latin typeface="Times New Roman"/>
              </a:rPr>
              <a:t>ΚΕΑ Ρεθύμνο-Σεμινάριο για τις ΑΠΕ και τα Φ/Β Συστήματα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l-GR" sz="1300" spc="-1" strike="noStrike">
                <a:solidFill>
                  <a:srgbClr val="000000"/>
                </a:solidFill>
                <a:latin typeface="Times New Roman"/>
              </a:rPr>
              <a:t>Αντιστροφείς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9556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50C9444-5312-4DC1-A742-E7CE14405700}" type="slidenum">
              <a:rPr b="0" lang="el-G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22320" y="75564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5840" y="4773600"/>
            <a:ext cx="5042160" cy="695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  <a:ea typeface="Microsoft YaHe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1A934-11BD-4264-A0B6-91702810E8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6B19B-8F08-4B1F-8024-630960037C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5623C-4F51-474A-A5E4-CDEAC4CD9E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F0777-6368-46AF-B295-D708301A28D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F3E5C-FE41-417E-A461-8C2A44888C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773A4-1259-4DA1-A6CB-939E7B9825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7DD11-E407-4CB5-83DB-4C5D53F4F1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3D7C6-ACBF-499C-AA1F-525DCEA7FD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B3537-143F-471A-ACC3-CB7D768A4D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17177-338E-4C95-BED5-C688CA0A0F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DC8F9-6BEF-4730-A6D1-07BFF9A126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906FE-298B-4673-B946-198E67E54E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0" y="6477120"/>
            <a:ext cx="82281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238880" y="6400800"/>
            <a:ext cx="19036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C1F657F-F325-4F88-B40C-F3BD30D3C423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3.4_MED_Policies_and_Stakeholders_to_Structure_RES_Markets_vf%20-%20Copy.ppt" TargetMode="External"/><Relationship Id="rId2" Type="http://schemas.openxmlformats.org/officeDocument/2006/relationships/image" Target="../media/image7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7E9EA4-C45C-4E8E-8485-9563EF960E0B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Times New Roman"/>
              </a:rPr>
              <a:t>Το εργαλείο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mer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01B164D-F430-4C97-840C-F8C4C1E63CA4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27000"/>
            <a:ext cx="9144000" cy="585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Times New Roman"/>
              </a:rPr>
              <a:t>Το πρόγραμμα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MER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</a:rPr>
              <a:t>-Καμπύλη Διάρκεια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762120"/>
            <a:ext cx="876312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Μπορεί να συνθέσει ωριαία χρονοσειρά από μηνιαίες μέσες τιμές σε πίνακες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θα το δόυμε στην πράξη)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 ή να εισαχθεί από αρχεία τύπου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62120" cy="71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Εργαλείο Homer</a:t>
            </a:r>
          </a:p>
        </p:txBody>
      </p:sp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0" y="6477120"/>
            <a:ext cx="82281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-360" y="761760"/>
            <a:ext cx="895356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66"/>
                </a:solidFill>
                <a:latin typeface="Tahoma"/>
              </a:rPr>
              <a:t>Δείχνει το πόσο συχνά υπερβαίνουμε μία τιμή. Κατανοούμε μέγιστο/ελάχιστο-προκύπτει με ταξινόμηση σε φθίνουσα σειρ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Slide Number Placeholder 2"/>
          <p:cNvSpPr/>
          <p:nvPr/>
        </p:nvSpPr>
        <p:spPr>
          <a:xfrm>
            <a:off x="7245360" y="6400800"/>
            <a:ext cx="189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rId1"/>
          </p:cNvPr>
          <p:cNvSpPr/>
          <p:nvPr/>
        </p:nvSpPr>
        <p:spPr>
          <a:xfrm>
            <a:off x="7010280" y="6248520"/>
            <a:ext cx="457200" cy="152280"/>
          </a:xfrm>
          <a:prstGeom prst="rect">
            <a:avLst/>
          </a:prstGeom>
          <a:noFill/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761760" y="-31320"/>
            <a:ext cx="7770600" cy="703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l-GR" sz="4000" spc="-1" strike="noStrike">
                <a:solidFill>
                  <a:srgbClr val="800000"/>
                </a:solidFill>
                <a:latin typeface="Microsoft Sans Serif"/>
              </a:rPr>
              <a:t>Καμπύλη Διάρκειας Φορτίο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33520" y="1600200"/>
            <a:ext cx="8076960" cy="46036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76212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3"/>
          <p:cNvSpPr/>
          <p:nvPr/>
        </p:nvSpPr>
        <p:spPr>
          <a:xfrm>
            <a:off x="7245360" y="6400800"/>
            <a:ext cx="189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0" y="5760"/>
            <a:ext cx="9144000" cy="642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3333cc"/>
                </a:solidFill>
                <a:latin typeface="Microsoft Sans Serif"/>
              </a:rPr>
              <a:t>Μαθηματικοί τύπο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1371600" cy="627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28600" y="1600200"/>
            <a:ext cx="1066680" cy="8319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228600" y="2668680"/>
            <a:ext cx="1371600" cy="7603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228600" y="4876920"/>
            <a:ext cx="3429000" cy="7506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828800" y="838080"/>
            <a:ext cx="1219320" cy="304920"/>
          </a:xfrm>
          <a:prstGeom prst="rightArrow">
            <a:avLst>
              <a:gd name="adj1" fmla="val 50000"/>
              <a:gd name="adj2" fmla="val 999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752480" y="1828800"/>
            <a:ext cx="990720" cy="304920"/>
          </a:xfrm>
          <a:prstGeom prst="rightArrow">
            <a:avLst>
              <a:gd name="adj1" fmla="val 50000"/>
              <a:gd name="adj2" fmla="val 812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057400" y="2895480"/>
            <a:ext cx="1219320" cy="304920"/>
          </a:xfrm>
          <a:prstGeom prst="rightArrow">
            <a:avLst>
              <a:gd name="adj1" fmla="val 50000"/>
              <a:gd name="adj2" fmla="val 999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924360" y="5181480"/>
            <a:ext cx="1295280" cy="228600"/>
          </a:xfrm>
          <a:prstGeom prst="rightArrow">
            <a:avLst>
              <a:gd name="adj1" fmla="val 50000"/>
              <a:gd name="adj2" fmla="val 141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8380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Συνολική ενέργει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95480" y="17524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Μέσο φορτί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33920" y="28195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Συντελεστής φορτίο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380880" y="3733920"/>
            <a:ext cx="1143000" cy="6998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133720" y="3886200"/>
            <a:ext cx="1218960" cy="304920"/>
          </a:xfrm>
          <a:prstGeom prst="rightArrow">
            <a:avLst>
              <a:gd name="adj1" fmla="val 50000"/>
              <a:gd name="adj2" fmla="val 9994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7600" y="380988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Συντελεστής Χρησιμοποίησης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tilization fac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34120" y="50292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Συντελεστής ετεροχρονισμο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563868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Ο συντελεστής ετεροχρονισμού δείχνει πως επηρεάζει η μία ομάδα καταναλωτών τη συνολική αιχμή και την ομαλοποίησ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5867280" y="1752480"/>
            <a:ext cx="1447920" cy="4669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7315200" y="1752480"/>
            <a:ext cx="838080" cy="304920"/>
          </a:xfrm>
          <a:prstGeom prst="rightArrow">
            <a:avLst>
              <a:gd name="adj1" fmla="val 50000"/>
              <a:gd name="adj2" fmla="val 6871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2209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Διάρκεια αιχμή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7"/>
          <a:stretch/>
        </p:blipFill>
        <p:spPr>
          <a:xfrm>
            <a:off x="0" y="0"/>
            <a:ext cx="76212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477CE1D-CDE9-40B8-BFA7-86A3AF795AA3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-163440"/>
            <a:ext cx="9144000" cy="968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Το πρόγραμμα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MER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-Υπολογισμός καμπύλης κατανάλωση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762120"/>
            <a:ext cx="876312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Το βασικό μενού για τυπικές καμπύλες φαίνεται παρακάτω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09480" y="2133720"/>
            <a:ext cx="6477120" cy="42321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657600" y="3886200"/>
            <a:ext cx="914400" cy="68580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572000" y="2589120"/>
            <a:ext cx="2286000" cy="15271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934320" y="1447920"/>
            <a:ext cx="22096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Δυνατότητα λεπτομερούς προσθήκης καμπύλης κατανάλωσης καυσίμο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62120" cy="71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Εργαλείο Homer</a:t>
            </a:r>
          </a:p>
        </p:txBody>
      </p:sp>
    </p:spTree>
  </p:cSld>
  <p:transition spd="slow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422CF77-8E2A-4243-A5C4-9E38AA27F27A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9144000" cy="530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MER-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Καμπύλη κατανάλωσης Καυσίμο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" y="762120"/>
            <a:ext cx="876312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Είναι προτιμότερο, αν έχουμε δεδομένα, να χρησιμοποιούμε την αναλυτική περιγραφή-ακριβέστερο αποτέλεσμα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752480" y="2227320"/>
            <a:ext cx="5257800" cy="4221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209680" y="5562720"/>
            <a:ext cx="1219320" cy="83808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1293840" y="4646520"/>
            <a:ext cx="1069920" cy="1146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2280" y="2514600"/>
            <a:ext cx="1600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οντελοποίηση σε μορφή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b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Εργαλείο Homer</a:t>
            </a:r>
          </a:p>
        </p:txBody>
      </p:sp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0E5B2BD-CEE0-431B-B24A-ADFE8E3B1225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7000"/>
            <a:ext cx="9144000" cy="585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Times New Roman"/>
              </a:rPr>
              <a:t>Το πρόγραμμα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M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35080" y="800280"/>
            <a:ext cx="86724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8520" indent="-39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68400"/>
                <a:tab algn="l" pos="1882800"/>
                <a:tab algn="l" pos="2797200"/>
                <a:tab algn="l" pos="3711600"/>
                <a:tab algn="l" pos="4626000"/>
                <a:tab algn="l" pos="5540400"/>
                <a:tab algn="l" pos="6454800"/>
                <a:tab algn="l" pos="7369200"/>
                <a:tab algn="l" pos="8283600"/>
                <a:tab algn="l" pos="9198000"/>
                <a:tab algn="l" pos="10112400"/>
                <a:tab algn="l" pos="105156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Είναι κυρίως οικονομετρικό μοντέλο για τη σύγκριση παραμέτρων και μεγέθους συνιστωσών και για τη διερεύνηση συνθέσεων ενός αυτόνομου ή διασυνδεδεμένου μικρού ΣΗ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8520" indent="-39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68400"/>
                <a:tab algn="l" pos="1882800"/>
                <a:tab algn="l" pos="2797200"/>
                <a:tab algn="l" pos="3711600"/>
                <a:tab algn="l" pos="4626000"/>
                <a:tab algn="l" pos="5540400"/>
                <a:tab algn="l" pos="6454800"/>
                <a:tab algn="l" pos="7369200"/>
                <a:tab algn="l" pos="8283600"/>
                <a:tab algn="l" pos="9198000"/>
                <a:tab algn="l" pos="10112400"/>
                <a:tab algn="l" pos="105156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Διερευνά αν οι παράμετροι επηρρεάζουν τη λειτουργία και το κόστος της προτεινόμενης λύσης ηλεκτροδότηση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62120" cy="71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Εργαλείο Homer</a:t>
            </a:r>
          </a:p>
        </p:txBody>
      </p:sp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57EC9A5-FE8B-4073-A8AA-65B1BC293F93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27000"/>
            <a:ext cx="9144000" cy="585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Times New Roman"/>
              </a:rPr>
              <a:t>Το πρόγραμμα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M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35080" y="800280"/>
            <a:ext cx="86724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8520" indent="-39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68400"/>
                <a:tab algn="l" pos="1882800"/>
                <a:tab algn="l" pos="2797200"/>
                <a:tab algn="l" pos="3711600"/>
                <a:tab algn="l" pos="4626000"/>
                <a:tab algn="l" pos="5540400"/>
                <a:tab algn="l" pos="6454800"/>
                <a:tab algn="l" pos="7369200"/>
                <a:tab algn="l" pos="8283600"/>
                <a:tab algn="l" pos="9198000"/>
                <a:tab algn="l" pos="10112400"/>
                <a:tab algn="l" pos="10515600"/>
              </a:tabLst>
            </a:pPr>
            <a:r>
              <a:rPr b="0" lang="el-GR" sz="3200" spc="-1" strike="noStrike" u="sng">
                <a:solidFill>
                  <a:srgbClr val="000000"/>
                </a:solidFill>
                <a:uFillTx/>
                <a:latin typeface="Times New Roman"/>
              </a:rPr>
              <a:t>Δεν είναι κατάλληλο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 για σοβαρότερους τεχνικούς περιορισμόύς όπως για παράδειγμ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68400"/>
                <a:tab algn="l" pos="1882800"/>
                <a:tab algn="l" pos="2797200"/>
                <a:tab algn="l" pos="3711600"/>
                <a:tab algn="l" pos="4626000"/>
                <a:tab algn="l" pos="5540400"/>
                <a:tab algn="l" pos="6454800"/>
                <a:tab algn="l" pos="7369200"/>
                <a:tab algn="l" pos="8283600"/>
                <a:tab algn="l" pos="9198000"/>
                <a:tab algn="l" pos="10112400"/>
                <a:tab algn="l" pos="105156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Τάση καταναλωτ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68400"/>
                <a:tab algn="l" pos="1882800"/>
                <a:tab algn="l" pos="2797200"/>
                <a:tab algn="l" pos="3711600"/>
                <a:tab algn="l" pos="4626000"/>
                <a:tab algn="l" pos="5540400"/>
                <a:tab algn="l" pos="6454800"/>
                <a:tab algn="l" pos="7369200"/>
                <a:tab algn="l" pos="8283600"/>
                <a:tab algn="l" pos="9198000"/>
                <a:tab algn="l" pos="10112400"/>
                <a:tab algn="l" pos="105156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Συμπεριφορά Αντιστροφέ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68400"/>
                <a:tab algn="l" pos="1882800"/>
                <a:tab algn="l" pos="2797200"/>
                <a:tab algn="l" pos="3711600"/>
                <a:tab algn="l" pos="4626000"/>
                <a:tab algn="l" pos="5540400"/>
                <a:tab algn="l" pos="6454800"/>
                <a:tab algn="l" pos="7369200"/>
                <a:tab algn="l" pos="8283600"/>
                <a:tab algn="l" pos="9198000"/>
                <a:tab algn="l" pos="10112400"/>
                <a:tab algn="l" pos="105156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Δυναμικές μεταβολές των συνιστωσώ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68400"/>
                <a:tab algn="l" pos="1882800"/>
                <a:tab algn="l" pos="2797200"/>
                <a:tab algn="l" pos="3711600"/>
                <a:tab algn="l" pos="4626000"/>
                <a:tab algn="l" pos="5540400"/>
                <a:tab algn="l" pos="6454800"/>
                <a:tab algn="l" pos="7369200"/>
                <a:tab algn="l" pos="8283600"/>
                <a:tab algn="l" pos="9198000"/>
                <a:tab algn="l" pos="10112400"/>
                <a:tab algn="l" pos="105156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Σύνθετες στρατηγικές οικονομικής κατανομή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62120" cy="71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Εργαλείο Homer</a:t>
            </a:r>
          </a:p>
        </p:txBody>
      </p:sp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DCA59A3-3027-412A-A000-5DE491DA8AEE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27000"/>
            <a:ext cx="9144000" cy="585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Times New Roman"/>
              </a:rPr>
              <a:t>Το πρόγραμμα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M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35080" y="800280"/>
            <a:ext cx="86724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8520" indent="-398520">
              <a:lnSpc>
                <a:spcPct val="90000"/>
              </a:lnSpc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68400"/>
                <a:tab algn="l" pos="1882800"/>
                <a:tab algn="l" pos="2797200"/>
                <a:tab algn="l" pos="3711600"/>
                <a:tab algn="l" pos="4626000"/>
                <a:tab algn="l" pos="5540400"/>
                <a:tab algn="l" pos="6454800"/>
                <a:tab algn="l" pos="7369200"/>
                <a:tab algn="l" pos="8283600"/>
                <a:tab algn="l" pos="9198000"/>
                <a:tab algn="l" pos="10112400"/>
                <a:tab algn="l" pos="105156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ίναι διαθέσιμο από την ιστοσελίδα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w.nrel.gov (A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ερική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8520" indent="-398520">
              <a:lnSpc>
                <a:spcPct val="90000"/>
              </a:lnSpc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68400"/>
                <a:tab algn="l" pos="1882800"/>
                <a:tab algn="l" pos="2797200"/>
                <a:tab algn="l" pos="3711600"/>
                <a:tab algn="l" pos="4626000"/>
                <a:tab algn="l" pos="5540400"/>
                <a:tab algn="l" pos="6454800"/>
                <a:tab algn="l" pos="7369200"/>
                <a:tab algn="l" pos="8283600"/>
                <a:tab algn="l" pos="9198000"/>
                <a:tab algn="l" pos="10112400"/>
                <a:tab algn="l" pos="105156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ίνει τη δυνατότητα διαστασιολόγησης διασυνδεδεμένων και μη συστημάτων με τη δυνατότητα προσθήκης και άλλων πηγών ΑΠΕ αλλά και γεννητριών για εφεδρεί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8520" indent="-398520">
              <a:lnSpc>
                <a:spcPct val="90000"/>
              </a:lnSpc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68400"/>
                <a:tab algn="l" pos="1882800"/>
                <a:tab algn="l" pos="2797200"/>
                <a:tab algn="l" pos="3711600"/>
                <a:tab algn="l" pos="4626000"/>
                <a:tab algn="l" pos="5540400"/>
                <a:tab algn="l" pos="6454800"/>
                <a:tab algn="l" pos="7369200"/>
                <a:tab algn="l" pos="8283600"/>
                <a:tab algn="l" pos="9198000"/>
                <a:tab algn="l" pos="10112400"/>
                <a:tab algn="l" pos="105156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ίνει τη δυνατότητα προσθήκης παραμέτρων ευαισθησίας για την ισχύ, τις τιμές κόστους, τους βαθμούς απόδοσης, τον αριθμό των Ανεμογεννητριών κλ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8520" indent="-398520">
              <a:lnSpc>
                <a:spcPct val="90000"/>
              </a:lnSpc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68400"/>
                <a:tab algn="l" pos="1882800"/>
                <a:tab algn="l" pos="2797200"/>
                <a:tab algn="l" pos="3711600"/>
                <a:tab algn="l" pos="4626000"/>
                <a:tab algn="l" pos="5540400"/>
                <a:tab algn="l" pos="6454800"/>
                <a:tab algn="l" pos="7369200"/>
                <a:tab algn="l" pos="8283600"/>
                <a:tab algn="l" pos="9198000"/>
                <a:tab algn="l" pos="10112400"/>
                <a:tab algn="l" pos="105156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πιτρέπει την παρακολούθηση παραμέτρων για ένα ολόκληρο έτο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ε ωριαία βήματ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62120" cy="71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Εργαλείο Homer</a:t>
            </a:r>
          </a:p>
        </p:txBody>
      </p:sp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6D0B830-24A9-4B3F-A883-494422A1FCEC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27000"/>
            <a:ext cx="9144000" cy="585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Times New Roman"/>
              </a:rPr>
              <a:t>Το πρόγραμμα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M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35080" y="800280"/>
            <a:ext cx="86724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8520" indent="-398520"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68400"/>
                <a:tab algn="l" pos="1882800"/>
                <a:tab algn="l" pos="2797200"/>
                <a:tab algn="l" pos="3711600"/>
                <a:tab algn="l" pos="4626000"/>
                <a:tab algn="l" pos="5540400"/>
                <a:tab algn="l" pos="6454800"/>
                <a:tab algn="l" pos="7369200"/>
                <a:tab algn="l" pos="8283600"/>
                <a:tab algn="l" pos="9198000"/>
                <a:tab algn="l" pos="10112400"/>
                <a:tab algn="l" pos="105156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Για κάθε ώρα, η θερμική και η ηλεκτρική ζήτηση συγκρίνεται με τη δυνατότητα παραγωγής από το ενεργειακό σύστημα και υπολογίζει τη ροή από και προς κάθε συνιστώσ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8520" indent="-398520"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68400"/>
                <a:tab algn="l" pos="1882800"/>
                <a:tab algn="l" pos="2797200"/>
                <a:tab algn="l" pos="3711600"/>
                <a:tab algn="l" pos="4626000"/>
                <a:tab algn="l" pos="5540400"/>
                <a:tab algn="l" pos="6454800"/>
                <a:tab algn="l" pos="7369200"/>
                <a:tab algn="l" pos="8283600"/>
                <a:tab algn="l" pos="9198000"/>
                <a:tab algn="l" pos="10112400"/>
                <a:tab algn="l" pos="105156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ι υπολογισμοί ενεργειακού ισοζυγίου επαναλαμβάνονται για κάθε συνδυασμό ενεργειακών συστημάτω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8520" indent="-398520"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68400"/>
                <a:tab algn="l" pos="1882800"/>
                <a:tab algn="l" pos="2797200"/>
                <a:tab algn="l" pos="3711600"/>
                <a:tab algn="l" pos="4626000"/>
                <a:tab algn="l" pos="5540400"/>
                <a:tab algn="l" pos="6454800"/>
                <a:tab algn="l" pos="7369200"/>
                <a:tab algn="l" pos="8283600"/>
                <a:tab algn="l" pos="9198000"/>
                <a:tab algn="l" pos="10112400"/>
                <a:tab algn="l" pos="105156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θορίζει αν ο συνδυασμός που προτείνει ο χρήστης είναι εφικτός και εκτιμά το κόστος εγκατάστασης και λειτουργίας του συστήματος για το χρόνο ζωής του έργο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62120" cy="71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Εργαλείο Homer</a:t>
            </a:r>
          </a:p>
        </p:txBody>
      </p:sp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AB55C23-EE58-495B-B5F4-EB8898C98FF5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7000"/>
            <a:ext cx="9144000" cy="585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Times New Roman"/>
              </a:rPr>
              <a:t>Το πρόγραμμα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M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235080" y="990720"/>
            <a:ext cx="8670960" cy="5256000"/>
            <a:chOff x="235080" y="990720"/>
            <a:chExt cx="8670960" cy="5256000"/>
          </a:xfrm>
        </p:grpSpPr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235080" y="990720"/>
              <a:ext cx="8670960" cy="525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235080" y="990720"/>
              <a:ext cx="8670960" cy="525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6019920" y="1066680"/>
            <a:ext cx="2590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Χαρακτηριστική Εικόν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62120" cy="71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Εργαλείο Homer</a:t>
            </a:r>
          </a:p>
        </p:txBody>
      </p:sp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119DBD9-7168-4AC5-96CC-74844DA835B4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27000"/>
            <a:ext cx="9144000" cy="585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Times New Roman"/>
              </a:rPr>
              <a:t>Το πρόγραμμα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M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Δυνατότητα μεταβολής του φορτίου ζήτησης, της ηλιακής ακτινοβολίας (και μέσω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et),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προσθήκη ταυτόχρονα Α/Γ και Φ/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4920" y="2666880"/>
            <a:ext cx="3292200" cy="34196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91120" y="2438280"/>
            <a:ext cx="4952880" cy="38530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762120" cy="71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Εργαλείο Homer</a:t>
            </a:r>
          </a:p>
        </p:txBody>
      </p:sp>
    </p:spTree>
  </p:cSld>
  <p:transition spd="slow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9BB5057-D4DA-4137-A1DA-63E480DF3F59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27000"/>
            <a:ext cx="9144000" cy="585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Times New Roman"/>
              </a:rPr>
              <a:t>Το πρόγραμμα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M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Δυνατότητα εξαγωγής γραφικών αναπαραστάσεων-για παράδειγμα ωριαίες καμπύλες-καμπύλες διάρκειας φορτίου κλπ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Δυνατότητα εξαγωγής αποτελεσμάτων σε αρχείο κειμένο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028880" y="3048120"/>
            <a:ext cx="7086600" cy="30765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62120" cy="71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Εργαλείο Homer</a:t>
            </a:r>
          </a:p>
        </p:txBody>
      </p:sp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22E59AA-9B84-482E-88F6-368DCECBE56B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27000"/>
            <a:ext cx="9144000" cy="585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Times New Roman"/>
              </a:rPr>
              <a:t>Το πρόγραμμα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MER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</a:rPr>
              <a:t>-Φορτί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762120"/>
            <a:ext cx="876312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Μπορεί να συνθέσει ωριαία χρονοσειρά από μηνιαίες μέσες τιμές σε πίνακες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θα το δόυμε στην πράξη)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 ή να εισαχθεί από αρχεία τύπου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143000" y="2362320"/>
            <a:ext cx="7315200" cy="4006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62120" cy="71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Εργαλείο Homer</a:t>
            </a:r>
          </a:p>
        </p:txBody>
      </p:sp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1T21:32:00Z</dcterms:created>
  <dc:creator>ntua</dc:creator>
  <dc:description/>
  <dc:language>en-US</dc:language>
  <cp:lastModifiedBy>tsikalos</cp:lastModifiedBy>
  <dcterms:modified xsi:type="dcterms:W3CDTF">2011-11-19T08:34:29Z</dcterms:modified>
  <cp:revision>191</cp:revision>
  <dc:subject/>
  <dc:title>Το εργαλείο Προσομοίωσης RetScreen ®</dc:title>
</cp:coreProperties>
</file>