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595-3FE9-462C-9A52-29D497BE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24E-30D6-4BC7-9520-F00201DB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66AC8-A498-40A2-9013-7526B437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E3DA5-1495-4800-902D-5C61F7C2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C6509-7FCF-4A15-B536-3FB27328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4CE6F-C201-4967-A671-4B7A4CD8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84EE8-CDFC-4D70-8597-0B7873A4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B75E4-2FE1-4D56-B369-3B680DE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32940-663A-4108-A7F6-45E32029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6CDE4-0C24-4A29-B0B3-6B05E342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B22C3-D20C-41F2-AC55-976E6BE2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96ACB-8936-48A8-BBEE-76859EDD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213-E15F-4F44-BA9A-76B68008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EE4A7-C1D4-40E9-97C0-03025886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65478-EE89-4604-894F-FF4B86BA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A6DAB-FE90-454C-AE76-DD02AF3C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3D844-BBD5-4B52-B042-D83DB31D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01419-2F1F-4990-884A-2D48A933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229E0-1186-4DA8-AD80-48439390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16BB2-87A3-4CEA-B50C-3E670B2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67551-B021-4545-9DCE-97B56FF3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01CF3-4256-435C-B349-ACCB4B27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9C66D-A019-4885-926A-388DE902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17E-AD4E-4E06-BB7F-B73824D4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BC500-D1EF-4CCE-8565-4676C81A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2BBB1-A16B-4524-9C5E-457D0D87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DD18D-2870-457F-8B28-C019B34F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13299-E59C-4D4B-A0E3-5EF7F27D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8E6D5-E2DF-4E4C-BD15-F32A19A5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7BD4B-F563-4E2C-BCCE-BB1D712D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5E8E7-F03E-4F52-8AA7-2EB33233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74374-1353-47A7-8C9E-C19B14FB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EE6C2-D9E6-471E-BEA2-C57782E7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CE149-4E86-49A8-8AE2-36DD6790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852F-6ADA-4C34-8E6C-BC1D26CB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85B31-1F71-48D4-9F33-F7679678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0CE7F-1137-4C51-92A7-449BDBB2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30023-C72A-4569-9845-6E58E29C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E4420-A83B-494E-A17E-1E887EC1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A6068-5A7A-4541-BE29-502271E7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FF464-4A24-4330-9C9C-D1F0E76D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C59D0-B1EB-4E69-955B-0B49D52E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F7F6E-10C3-4B5A-8FFC-F961C737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651EB-C1BE-4FE0-BB8C-612FCEAE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EEADF-8B10-434E-8BD8-CA273123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CD4F-DB79-4812-A4E2-5D457B2B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910DF-492C-44AA-A85D-81D3446B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0C409-1F0F-4659-AD94-DE3EDEFB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9CE4F-B467-42FE-9082-E23DF551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ED2A4-9F10-4C89-9EE3-B2BAD3E9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80B05-3A8B-4775-AFBD-9F5DBF7D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1BE0A-D6F9-4E66-83E5-23E78C6C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24EB2-3352-43E0-BAAA-032AA7ED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FF064-1E43-440F-9168-65B10BDC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51A8F-8243-48C4-B618-4D63C7A9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5B20C-610E-472D-B861-AEA1635B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877B-0B48-428B-8BF3-9AA54B61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594A4-35D8-40B9-9E0F-F9A5941B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057E4-2C6D-45FF-A079-B060B6BB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9E558-3066-47B9-B175-993051F8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B2E78-C695-4887-8BC1-3F661BCD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DE34A-9470-43A0-A49D-BD5DFE1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CE80D-46CD-48A4-BC6E-5A85887B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F312C-C8BE-4788-BF09-63EA6E87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722F-61D7-4F6B-8017-41AF7BB0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3655-B703-4E44-9C21-875D264D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D9D1-1042-4C74-AB08-87376EA1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01BF-2792-41B7-9B62-E7F5B5CE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92E-3EBD-4C6E-9591-D69537FE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56AE-98A7-4781-8BF3-D2D58C6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CBB8-A00F-4296-8271-E5ED0D43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9B83-5161-48BA-BCD1-4B17F74B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6D95-73B3-449B-986E-8F1E3E64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9EE7-A665-4DFC-9437-72D6E6C3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940C-AEA9-41D9-9BFC-1368FAD5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60CB-BCF2-401A-BA05-AF2C2133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7511-19A6-4394-BFA9-14E5C0B0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E2E6-50EE-4C0C-BDD2-9D572355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13D5-6FCC-45C4-A458-90B48897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DD4-706D-497B-96EE-9D4A113C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E5B2B-63AB-421F-9F6B-EF84C6B6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001B-625F-4854-B9BC-13F57501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9C76-1CE1-44BB-99E3-513AFE16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553CB-6D9F-4E72-9B2D-73636B49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01A3-8945-47B1-BA58-5395D927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E473-9A40-452E-8E09-558211F0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0A46F-3DF1-473E-8E28-DA545BA3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734F8-B02B-44F0-A959-0D8FB583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6C81E-D583-4678-97DE-B8B2777F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7F550-3427-49B1-92FE-B6D8EDA7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D1A-CAFD-4EA6-9BB9-67D1E615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1FF2F-40E3-4335-9E23-67FA5E78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13DF-FBC0-4A6C-B848-69414F67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C852-3992-4C43-B02C-D71C7653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4CE00-3007-4865-B72F-7E48484C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77DD-2E7A-4E0B-A09F-0A6CA7FE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8D47-D934-437A-A8E1-09EB9A65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B7F4-0C6B-45EF-ABED-F87F5429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07228-5060-4C7B-A032-A24AFD16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A6A75-7872-4CE3-AE0E-5B9D6D55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17ADA-5900-42D3-BE18-61F735FA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A34-711E-4FDA-80C0-EABA636C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68AE-A8A5-4BAD-A84E-AC3B27BC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2B2C4-4306-429A-965D-5DDF1892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719A-CF4B-48FC-A37C-4C496686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80764-C191-4FDF-830D-C1C37A10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B3954-3122-4355-81E7-51C3FE51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93B32-8A68-482C-9F17-C304BEA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0755-F29F-4B7E-B74D-FF6DF24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0696C-4D61-4882-99F1-2DCDE6B5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7E019-1A93-43FC-B510-478173AB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2EE6E-D615-488D-B16B-2193E02F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F83-F6C0-4CAE-8488-D2BE57D2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97C2E-A603-441A-8374-3C701292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DCAAA-81A9-401A-A248-DABD2796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CEC9E-D4B1-46AD-BA18-E530DD84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12FCF-115E-4E4D-BD11-7C5942F3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BE0DA-B3C1-4111-A84D-274A4F91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4776A-1506-4F50-A9AE-A61215FC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726E5-2E9D-4364-B82C-F4A33523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3763-A82B-4FB4-927A-1D680845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519D8-A203-443D-9D9D-9D8F2C4D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6645F-DC01-4737-B0C1-A76D03F0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389-0E32-49B1-A06D-829FFC9D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A99D2-F557-449F-A072-58DC4534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86DF0-04A1-4AEE-B934-64951420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004B9-1320-453C-8DB6-E67A2440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66673-4DA6-437B-B12E-48D2CE3B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C56F0-6C88-40E7-BCDA-30F2A3FC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E4F03-5E53-450A-AE5A-D6A878F6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115FC-72A0-4FC2-8498-FAA16AFF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89E0A-BC41-43F9-8863-30786321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37533-E6E3-4C90-8A2F-F82A3799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D780A-C8A1-4572-91A2-D9A8520A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26F-367A-43F9-9004-31773C7A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A8AF8-E4C6-48CC-9660-53E81DE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06687-7A6E-4001-93F0-9B701BE5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4CA06-82EA-4863-8469-A868E633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3990-88E3-4FDA-957B-31DA8EC3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4E590-0072-4CED-BC2E-3F6D5D74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8992E-544C-4CFB-B0FC-027E8E65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31CE8-02D9-4377-A5E6-4C552651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181B7-1C2C-4C3B-B33A-390ABE64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F52DB-A14D-4A22-B8AF-E55BE742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2BF36-7BCF-458E-9402-1EA031E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905-95EA-4B3E-8189-2F0186C6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68B58-D33D-462E-8CF6-DFD0FF92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08568-EB35-4B1E-B617-16A343E2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736D9-6CEC-412A-A8E0-EAA9A78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AC445-1F97-4C85-AC66-E466D918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03D2A-DBB9-4B6C-8D39-38052A48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20ABA-7D68-4D2F-957C-3BB9E55F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7C87F-84A7-400C-8D78-B0DD2157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6CBF9-38CE-4057-8180-A119209C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86C16-D678-4002-9B5A-50777E53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41865-8AA4-4712-BAA4-97D430DB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F10D-22CF-4F33-9F86-ABD10AECD8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BF1953F-01B4-45F2-87BD-17215CC5C3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D203-2503-4189-9157-29FBAFC2D4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D111EB9-23AC-45DA-94B8-F024118515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E050-73EA-4F6D-95E2-BE06DA1640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D6F4BDB4-A413-49CB-B081-EFA6648AD9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1389-403B-4EFB-8DDD-3D83C98C442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598B6558-9264-44A6-AF1F-7BC3BF0EC8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DB0B-A946-46D6-978C-09CEDC745D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0E7E3A9F-90D2-4799-A0CE-6C188414AE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1E61-7F0E-49E7-AB05-18893C21F7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23DD019-54AD-462F-89FF-89A7571F78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551A-7FFF-4BA0-805A-635CDB466C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73729B0-F299-4F9A-ABB9-09D66B2AFB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0E8B-85E6-493D-BF14-8723F1BAA8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01BBAB8-3C73-49F5-9CDA-0813EBD72A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A60C-D2E3-47A6-BB94-2C9A987D6CF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EFC9A94-6AA9-4096-96A1-C533081A7D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2EB1-AF13-429A-A501-3C0BAF396EC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32EED6F-E51A-45D0-8874-23F5B36357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1434-E2FA-4AF4-9BB8-CD9B4985B8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25082CD-4423-4D83-8087-9AB987AC8E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94AF-4107-441D-B8D7-E76001EC21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E5FD47E7-0D38-448C-9B82-408C870D19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0FFE-5B09-412C-8066-360022DBFD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BEC9912F-E5D5-402E-913F-0C5106B51F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arduino.cc/en/Tutorial/MasterWriter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arduino.cc/en/Tutorial/MasterReader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8000" y="2619000"/>
            <a:ext cx="8945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400" spc="-1" strike="noStrike">
                <a:solidFill>
                  <a:srgbClr val="000000"/>
                </a:solidFill>
                <a:latin typeface="Gill Sans MT"/>
              </a:rPr>
              <a:t>Σειριακά Πρωτόκολλα Επικοινωνίας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Τρόπος λειτουργίας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C Bu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57" name="3 - Εικόνα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500040" y="857160"/>
            <a:ext cx="8001000" cy="1643040"/>
          </a:xfrm>
          <a:prstGeom prst="rect">
            <a:avLst/>
          </a:prstGeom>
          <a:ln w="0">
            <a:noFill/>
          </a:ln>
        </p:spPr>
      </p:pic>
      <p:sp>
        <p:nvSpPr>
          <p:cNvPr id="558" name="4 - TextBox"/>
          <p:cNvSpPr/>
          <p:nvPr/>
        </p:nvSpPr>
        <p:spPr>
          <a:xfrm>
            <a:off x="428760" y="2476440"/>
            <a:ext cx="8286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ώντας μια ανταλλαγή δεδομένων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δημιουργεί μια κατάσταση έναρξης, τοποθετώντας τ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DA p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χαμηλότερα σε σχέση με τ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L pin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Ύστερα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μεταδίδει την διεύθυνση της συσκευής με την οποία θέλει να επικοινωνήσει στέλνοντας κάθ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t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ης διεύθυνσης σε 7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 Παρατηρήστε το σήμα ρολογιού (SCL) εναλλάσσεται για κάθε κομμάτι της διεύθυνσης.             Κατ’ αυτόν τον τρόπο ο δίαυλος καταλαβαίνει με ποια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επιθυμεί να επικοινωνήσει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μέσως μετά την αποστολή της διεύθυνσης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στέλνει ένα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e bit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ο οποίο καθορίζει εάν θα σταλούν δεδομένα στην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ή θα διαβαστούν δεδομένα από αυτή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Έπειτα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ή  μεταδίδει δεδομένα προς την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είτε στέλνει την διεύθυνση του καταχωρητή της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ς από την οποία θέλει να αποκτήσει δεδομένα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έλος,  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υσκευή θα διακόψει την επικοινωνία τοποθετώντας τ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DA p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ψηλότερα, όπου ακριβώς βρίσκεται τ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L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I2C communic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" name="5 - Θέση περιεχομένου" descr="Untitled2.jpg"/>
          <p:cNvPicPr/>
          <p:nvPr/>
        </p:nvPicPr>
        <p:blipFill>
          <a:blip r:embed="rId1"/>
          <a:stretch/>
        </p:blipFill>
        <p:spPr>
          <a:xfrm>
            <a:off x="1295280" y="4648320"/>
            <a:ext cx="2548080" cy="2209680"/>
          </a:xfrm>
          <a:prstGeom prst="rect">
            <a:avLst/>
          </a:prstGeom>
          <a:ln w="0">
            <a:noFill/>
          </a:ln>
        </p:spPr>
      </p:pic>
      <p:pic>
        <p:nvPicPr>
          <p:cNvPr id="561" name="6 - Εικόνα" descr="Untitled3.jpg"/>
          <p:cNvPicPr/>
          <p:nvPr/>
        </p:nvPicPr>
        <p:blipFill>
          <a:blip r:embed="rId2"/>
          <a:stretch/>
        </p:blipFill>
        <p:spPr>
          <a:xfrm>
            <a:off x="3886200" y="4648320"/>
            <a:ext cx="4549680" cy="2209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0" descr="Image result for i2c arduino pullup"/>
          <p:cNvPicPr/>
          <p:nvPr/>
        </p:nvPicPr>
        <p:blipFill>
          <a:blip r:embed="rId3"/>
          <a:stretch/>
        </p:blipFill>
        <p:spPr>
          <a:xfrm>
            <a:off x="4572000" y="1504800"/>
            <a:ext cx="4572000" cy="2533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Image result for i2c arduino pullup"/>
          <p:cNvPicPr/>
          <p:nvPr/>
        </p:nvPicPr>
        <p:blipFill>
          <a:blip r:embed="rId4"/>
          <a:stretch/>
        </p:blipFill>
        <p:spPr>
          <a:xfrm>
            <a:off x="457200" y="1371600"/>
            <a:ext cx="38419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I2C communic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Βιβλιοθήκη 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ire.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ins A4 for SDA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και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A5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SC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Μπορούμε να αλλάξουμε την ταχύτητα επικοινωνίας μ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BR = 1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για 4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Hz(max), 32-&gt;200kHz, 72-&gt;100kHz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ault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κτλ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Μηνύματα μέχρι μήκους 3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ieveEvent() &amp; requestEvent()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είναι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R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όποτε πρέπει να αποφεύγονται τ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ays, serial prints,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ο πολύς κώδικας, άλλ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rupts.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Χρήσ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μεταβλητώ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atile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1519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ff0000"/>
                </a:solidFill>
                <a:latin typeface="Comic Sans MS"/>
              </a:rPr>
              <a:t>//ΜΑΣΤΕΡ</a:t>
            </a:r>
            <a:r>
              <a:rPr b="0" lang="en-A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#include &lt;Wire.h&gt;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void 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</a:rPr>
              <a:t>setup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() {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Wire.begin(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byte x = 0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void 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() 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Wire.beginTransmission(8); </a:t>
            </a:r>
            <a:r>
              <a:rPr b="0" lang="en-AU" sz="1800" spc="-1" strike="noStrike">
                <a:solidFill>
                  <a:srgbClr val="ff0000"/>
                </a:solidFill>
                <a:latin typeface="Comic Sans MS"/>
              </a:rPr>
              <a:t>//to slave #8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Wire.write("x is ");    </a:t>
            </a:r>
            <a:r>
              <a:rPr b="0" i="1" lang="en-AU" sz="1800" spc="-1" strike="noStrike">
                <a:solidFill>
                  <a:srgbClr val="ff0000"/>
                </a:solidFill>
                <a:latin typeface="Comic Sans MS"/>
              </a:rPr>
              <a:t>// sends five bytes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Wire.write(x);            </a:t>
            </a:r>
            <a:r>
              <a:rPr b="0" i="1" lang="en-AU" sz="1800" spc="-1" strike="noStrike">
                <a:solidFill>
                  <a:srgbClr val="ff0000"/>
                </a:solidFill>
                <a:latin typeface="Comic Sans MS"/>
              </a:rPr>
              <a:t>// sends one byte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Wire.endTransmission();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 x++;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  delay(500);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I2C communication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Master Write </a:t>
            </a:r>
            <a:r>
              <a:rPr b="1" lang="en-US" sz="4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Slave Read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2 - Θέση περιεχομένου"/>
          <p:cNvSpPr/>
          <p:nvPr/>
        </p:nvSpPr>
        <p:spPr>
          <a:xfrm>
            <a:off x="457200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1500" spc="-1" strike="noStrike">
                <a:solidFill>
                  <a:srgbClr val="ff0000"/>
                </a:solidFill>
                <a:latin typeface="Comic Sans MS"/>
              </a:rPr>
              <a:t>//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LAVE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#include &lt;Wire.h&gt;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 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setu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 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begin(8);  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join i2c with address #8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onReceive(receiveEvent); 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register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 event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Serial.begin(9600);        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 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 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delay(100);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 receiveEvent(int howMany) 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while (1 &lt; Wire.available()) { 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  char c = Wire.read()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  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Serial.print(c);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}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int x = Wire.read();   </a:t>
            </a:r>
            <a:r>
              <a:rPr b="0" i="1" lang="en-AU" sz="15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receive byte as int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 Serial.println(x); 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5 - TextBox">
            <a:hlinkClick r:id="rId1"/>
          </p:cNvPr>
          <p:cNvSpPr/>
          <p:nvPr/>
        </p:nvSpPr>
        <p:spPr>
          <a:xfrm>
            <a:off x="3657600" y="586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70c0"/>
                </a:solidFill>
                <a:uFillTx/>
                <a:latin typeface="Comic Sans MS"/>
              </a:rPr>
              <a:t>Link to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-152280" y="160020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1500" spc="-1" strike="noStrike">
                <a:solidFill>
                  <a:srgbClr val="ff0000"/>
                </a:solidFill>
                <a:latin typeface="Comic Sans MS"/>
              </a:rPr>
              <a:t>//ΜΑΣΤΕΡ</a:t>
            </a:r>
            <a:r>
              <a:rPr b="0" lang="en-AU" sz="15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#include &lt;Wire.h&gt;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 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setu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 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begin();    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join i2c bus (address </a:t>
            </a:r>
            <a:r>
              <a:rPr b="0" i="1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optional for master)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Serial.begin(9600)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 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 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requestFrom(8, 6); 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request 6         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           bytes from slave device #8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hile (Wire.available()) {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slave may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               send less than requested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  char c = Wire.read();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receive a byte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as character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  Serial.print(c); 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}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delay(500);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I2C communication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Slave Write </a:t>
            </a:r>
            <a:r>
              <a:rPr b="1" lang="en-US" sz="4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Master Read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2" name="2 - Θέση περιεχομένου"/>
          <p:cNvSpPr/>
          <p:nvPr/>
        </p:nvSpPr>
        <p:spPr>
          <a:xfrm>
            <a:off x="396252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1500" spc="-1" strike="noStrike">
                <a:solidFill>
                  <a:srgbClr val="ff0000"/>
                </a:solidFill>
                <a:latin typeface="Comic Sans MS"/>
              </a:rPr>
              <a:t>//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LAVE</a:t>
            </a:r>
            <a:r>
              <a:rPr b="0" lang="en-AU" sz="15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#include &lt;Wire.h&gt;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 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setu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 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begin(8);      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join i2c bus with address #8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onRequest(requestEvent);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register event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500"/>
            </a:b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 </a:t>
            </a:r>
            <a:r>
              <a:rPr b="1" lang="en-AU" sz="15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() 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delay(100);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br>
              <a:rPr sz="1500"/>
            </a:br>
            <a:br>
              <a:rPr sz="1500"/>
            </a:b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function that executes whenever data is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   requested by master</a:t>
            </a:r>
            <a:br>
              <a:rPr sz="1500"/>
            </a:b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 this function is registered as an event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void requestEvent() {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  Wire.write("hello _");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//msg of 6 bytes as 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AU" sz="1500" spc="-1" strike="noStrike">
                <a:solidFill>
                  <a:srgbClr val="ff0000"/>
                </a:solidFill>
                <a:latin typeface="Comic Sans MS"/>
              </a:rPr>
              <a:t>       expected by master</a:t>
            </a:r>
            <a:br>
              <a:rPr sz="1500"/>
            </a:br>
            <a:r>
              <a:rPr b="0" lang="en-AU" sz="15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5 - TextBox">
            <a:hlinkClick r:id="rId1"/>
          </p:cNvPr>
          <p:cNvSpPr/>
          <p:nvPr/>
        </p:nvSpPr>
        <p:spPr>
          <a:xfrm>
            <a:off x="3657600" y="586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70c0"/>
                </a:solidFill>
                <a:uFillTx/>
                <a:latin typeface="Comic Sans MS"/>
              </a:rPr>
              <a:t>Link to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Πρωτόκολλο 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SPI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160280"/>
            <a:ext cx="822960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rial Peripheral Interface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 είναι πρωτόκολλο σύγχρονης σειριακή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επικοινωνίας το οποίο επιτρέπει στα δεδομένα να ανταλλάζονται ανάμεσα σε 2 γραμμές επικοινωνίας. Το συγκεκριμένο πρωτόκολλο χρησιμεύει στη μεταφορά δεδομένων συνήθως από έναν κεντρικό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crocontroller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 σε άλλες περιφερειακές συσκευές όπω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sors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Στο πρωτόκολλο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I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 υπάρχει πάντα μία συσκευή η οποία ελέγχει τη ροή της επικοινωνίας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ster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) με τις υπόλοιπες συσκευές που επικοινωνεί ( slav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). Υπάρχει μία γραμμή ξεχωριστή για το ρολόι , άλλες δύο για τα δεδομένα και μία τρίτη για την επιλογή της συσκευής που επιθυμούμε να επικοινωνήσουμ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6" name="Picture 6" descr="C:\Users\Jas\Desktop\viomixanikoi\381px-SPI_single_slave.svg.png"/>
          <p:cNvPicPr/>
          <p:nvPr/>
        </p:nvPicPr>
        <p:blipFill>
          <a:blip r:embed="rId1"/>
          <a:stretch/>
        </p:blipFill>
        <p:spPr>
          <a:xfrm>
            <a:off x="1285920" y="2500200"/>
            <a:ext cx="60008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6429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l-GR" sz="2300" spc="-1" strike="noStrike">
                <a:solidFill>
                  <a:srgbClr val="000000"/>
                </a:solidFill>
                <a:latin typeface="Gill Sans MT"/>
              </a:rPr>
              <a:t>SCLK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: Σειριακό ρολόι (output από τη συσκευή Master)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ρολόι δίνει ένα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αλαντωμένο σήμα το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οποίο λέει στον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παραλήπτη πότε να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πάρει δείγμα από τα bit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που υπάρχουν στη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γραμμή των δεδομένων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Άρα όταν το ρολόι δίνει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σήμα high γίνεται η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δειγματοληψία από την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γραμμή των δεδομένων και αντίστοιχα όταν είναι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low (0) δεν παίρνουμε κάποιο δείγμα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" name="Picture 4" descr="C:\Users\Jas\Desktop\viomixanikoi\52ddb2d8ce395fad638b4567.png"/>
          <p:cNvPicPr/>
          <p:nvPr/>
        </p:nvPicPr>
        <p:blipFill>
          <a:blip r:embed="rId1"/>
          <a:stretch/>
        </p:blipFill>
        <p:spPr>
          <a:xfrm>
            <a:off x="3929040" y="1428840"/>
            <a:ext cx="4214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58860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MOSI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: Master Output, Slave Input (output </a:t>
            </a: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από τη συσκευή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ster)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MISO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: Master Input, Slave Output (output </a:t>
            </a: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από την συσκευή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lave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Στη περίπτωση που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επικοινωνεί η 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ter </a:t>
            </a: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συσκευή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με την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lave </a:t>
            </a: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τότε ενεργοποιείται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το σήμα του ρολογιού και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στέλνει την ακολουθία μέσω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της γραμμής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OSI .</a:t>
            </a: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Εάν τώρα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η slave συσκευή χρειαστεί να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στείλει μία απάντηση στη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Master τότε θα γίνει μέσω της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γραμμής MISO αφού η MOSI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ill Sans MT"/>
              </a:rPr>
              <a:t>είναι ήδη απασχολημένη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0" name="Picture 5" descr="C:\Users\Jas\Desktop\viomixanikoi\52ddb2dbce395fae408b4568.png"/>
          <p:cNvPicPr/>
          <p:nvPr/>
        </p:nvPicPr>
        <p:blipFill>
          <a:blip r:embed="rId1"/>
          <a:stretch/>
        </p:blipFill>
        <p:spPr>
          <a:xfrm>
            <a:off x="4286160" y="1946160"/>
            <a:ext cx="4071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7" descr="C:\Users\Jas\Desktop\viomixanikoi\52ddb2dcce395fed638b4567.png"/>
          <p:cNvPicPr/>
          <p:nvPr/>
        </p:nvPicPr>
        <p:blipFill>
          <a:blip r:embed="rId1"/>
          <a:stretch/>
        </p:blipFill>
        <p:spPr>
          <a:xfrm>
            <a:off x="4357800" y="1357200"/>
            <a:ext cx="4276440" cy="414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>
                <a:solidFill>
                  <a:srgbClr val="000000"/>
                </a:solidFill>
                <a:latin typeface="Gill Sans MT"/>
              </a:rPr>
              <a:t>SS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: Επιλογή δευτερεύοντων συσκεύων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Είναι η γραμμή που «ξυπνάει»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ην συσκευή slave όταν πρέπει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να στείλει ή να λάβει δεδομένα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ή στη περίπτωση που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έχουμε παραπάνω από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μία συσκευές slave είναι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η γραμμή που θα κάνει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ην επιλογή της συγκεκριμένης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συσκευής. Στη δεύτερη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περίπτωση (εαν έχουμε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δλδ πολλές συσκευές slave) χρησιμοποιείται για κάθε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συσκεύη ξεχωριστή γραμμή 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Εισαγωγή</a:t>
            </a:r>
            <a:br>
              <a:rPr sz="4000"/>
            </a:b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5712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Gill Sans MT"/>
              </a:rPr>
              <a:t>Σειριακή Επικοινωνία :</a:t>
            </a: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 Είναι η επικοινωνία κατά την οποία τα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ts</a:t>
            </a:r>
            <a:r>
              <a:rPr b="0" lang="el-GR" sz="2000" spc="-1" strike="noStrike">
                <a:solidFill>
                  <a:srgbClr val="000000"/>
                </a:solidFill>
                <a:latin typeface="Gill Sans MT"/>
              </a:rPr>
              <a:t> της πληροφορίας μεταδίδονται ένα κάθε φορά, στη σειρά, μέσα από έναν αγωγό μεταφοράς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l-GR" sz="1900" spc="-1" strike="noStrike">
                <a:solidFill>
                  <a:srgbClr val="000000"/>
                </a:solidFill>
                <a:latin typeface="Gill Sans MT"/>
              </a:rPr>
              <a:t>Ασύγχρονη σειριακή μετάδοση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Μορφή σήματος στην ασύγχρονη σειριακή μετάδοση χαρακτήρα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tart bit, bits </a:t>
            </a: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χαρακτήρα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, Parity bit, Stop bi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6" name="Picture 9" descr=""/>
          <p:cNvPicPr/>
          <p:nvPr/>
        </p:nvPicPr>
        <p:blipFill>
          <a:blip r:embed="rId1"/>
          <a:stretch/>
        </p:blipFill>
        <p:spPr>
          <a:xfrm>
            <a:off x="1000080" y="2773440"/>
            <a:ext cx="6143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Εισαγωγή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42884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l-GR" sz="1900" spc="-1" strike="noStrike">
                <a:solidFill>
                  <a:srgbClr val="000000"/>
                </a:solidFill>
                <a:latin typeface="Gill Sans MT"/>
              </a:rPr>
              <a:t>Σύγχρονη σειριακή μετάδοση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Στη σύγχρονη σειριακή μετάδοση έχουμε καλύτερη εκμετάλλευση του εύρους του καναλιού επικοινωνίας, αφού τα δεδομένα ομαδοποιούνται σε μεγάλα πακέτα δεδομένων, χωρίς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tart</a:t>
            </a: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 και 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top bits</a:t>
            </a:r>
            <a:r>
              <a:rPr b="0" lang="el-GR" sz="1900" spc="-1" strike="noStrike">
                <a:solidFill>
                  <a:srgbClr val="000000"/>
                </a:solidFill>
                <a:latin typeface="Gill Sans MT"/>
              </a:rPr>
              <a:t> στην αρχή και στο τέλος κάθε χαρακτήρα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Picture 10" descr=""/>
          <p:cNvPicPr/>
          <p:nvPr/>
        </p:nvPicPr>
        <p:blipFill>
          <a:blip r:embed="rId1"/>
          <a:stretch/>
        </p:blipFill>
        <p:spPr>
          <a:xfrm>
            <a:off x="1214280" y="2143080"/>
            <a:ext cx="6143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Πρωτόκολλο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UART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 (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RS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232) 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100160"/>
            <a:ext cx="497196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ART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versal Asynchronous Receiver/Transmitter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είναι ένα από τα πιο γνωστά πρότυπα για την σειριακή μετάδοση δυαδικών σημάτων δεδομένων μεταξύ συστημάτων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πρότυπο αυτό καθορίζει τα χαρακτηριστικά της επικοινωνίας μεταξύ ενός υπολογιστή και μιας περιφερειακής μονάδας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όπως για παράδειγμα ένα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odem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7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2" name="3 - Εικόνα" descr="09082-03-L.jpg"/>
          <p:cNvPicPr/>
          <p:nvPr/>
        </p:nvPicPr>
        <p:blipFill>
          <a:blip r:embed="rId1"/>
          <a:stretch/>
        </p:blipFill>
        <p:spPr>
          <a:xfrm>
            <a:off x="5500800" y="107172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543" name="5 - Εικόνα" descr="rs232_cable.png"/>
          <p:cNvPicPr/>
          <p:nvPr/>
        </p:nvPicPr>
        <p:blipFill>
          <a:blip r:embed="rId2"/>
          <a:stretch/>
        </p:blipFill>
        <p:spPr>
          <a:xfrm>
            <a:off x="1876320" y="4214880"/>
            <a:ext cx="5481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Χαρακτηριστικά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UART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 (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RS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232)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428840"/>
            <a:ext cx="82296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Η μέγιστη ταχύτητα που υποστηρίζει μια θύρα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RS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232 (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Recommended Standard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232 ) είναι 115.2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kbps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πρωτόκολλο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ART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επιτρέπει την ασύγχρονη σειριακή επικοινωνία ανάμεσα σε δύο συσκευές.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Εάν επιθυμούμε να συνδέσουμε περισσότερες από δύο συσκευές σε έναν υπολογιστή, χρειαζόμαστε περισσότερες από μία σειριακές θύρες.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Αμφίδρομη επικοινωνία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Διαθέτει δυο γραμμές: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a)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Γραμμή Μεταφοράς δεδομένων (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TX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b)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Γραμμή Λήψης δεδομένων (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RX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c)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α σήματα του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RS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232 περιλαμβάνουν σήματα για την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μεταφορά των δεδομένων και σήματα ελέγχου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Τρόπος λειτουργίας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UART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 (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RS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232)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71360" y="1071360"/>
            <a:ext cx="6715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Gill Sans MT"/>
              </a:rPr>
              <a:t>Το παρακάτω διάγραμμα δείχνει ένα σενάριο αποστολής 8 bit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8" name="3 - Εικόνα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85880" y="1500120"/>
            <a:ext cx="7572240" cy="1643040"/>
          </a:xfrm>
          <a:prstGeom prst="rect">
            <a:avLst/>
          </a:prstGeom>
          <a:ln w="0">
            <a:noFill/>
          </a:ln>
        </p:spPr>
      </p:pic>
      <p:sp>
        <p:nvSpPr>
          <p:cNvPr id="549" name="4 - TextBox"/>
          <p:cNvSpPr/>
          <p:nvPr/>
        </p:nvSpPr>
        <p:spPr>
          <a:xfrm>
            <a:off x="571680" y="3165480"/>
            <a:ext cx="7858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Ο αποστολέας ξεκινά την μετάδοση προσθέτοντας στην αρχή ένα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 σκοπός του οποίου είναι ο συγχρονισμός του παραλήπτη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Ο παραλήπτης, ο οποίος ελέγχει περιοδικά τη γραμμή, εντοπίζει τ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και ξεκινά μετά από χρόνο Τ/2 (όπου Τ ισούται με τον ονομαστικό χρόνο κάθ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) την δειγματοληψία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λέξη συμπληρώνεται προαιρετικά από ένα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ity 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 το οποίο χρησιμοποιείται για την ανίχνευση και διόρθωση λαθώ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μετάδοση ολοκληρώνεται με την αποστολή 0, 1, 1.5 ή 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p bit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 Τα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t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αυτά εξασφαλίζουν ότι η γραμμή θα είναι για κάποιο διάστημα σε υψηλή κατάσταση πριν το επόμενο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bit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. Επίσης δίνουν ένα περιθώριο χρόνου στον παραλήπτη (π.χ. για αποθήκευση της λέξης), πριν την έναρξη της επόμενης μεταφορά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99"/>
                </a:solidFill>
                <a:latin typeface="Gill Sans MT"/>
              </a:rPr>
              <a:t>Πρωτόκολλο </a:t>
            </a:r>
            <a:r>
              <a:rPr b="1" lang="en-US" sz="40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1" lang="el-GR" sz="4000" spc="-1" strike="noStrike">
                <a:solidFill>
                  <a:srgbClr val="000099"/>
                </a:solidFill>
                <a:latin typeface="Gill Sans MT"/>
              </a:rPr>
              <a:t>2</a:t>
            </a:r>
            <a:r>
              <a:rPr b="1" lang="en-US" sz="4000" spc="-1" strike="noStrike">
                <a:solidFill>
                  <a:srgbClr val="000099"/>
                </a:solidFill>
                <a:latin typeface="Gill Sans MT"/>
              </a:rPr>
              <a:t>C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C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Inter-Integrated Circuit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Bus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αποτελεί ένα πρωτόκολλο που χρησιμοποιείται για την διασύνδεση μεταξύ διαφορετικών ολοκληρωμένων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συστημάτων, όπως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ικροελεγκτών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λοκληρωμένων περιφερειακών,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όπως αισθητήρες πίεσης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συσκευές εικόνας και ήχου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εταδίδει δεδομένα σειριακά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Οι ταχύτητες τις οποίες επιτυγχάνει μπορούν να φτάσουν μέχρι και 3.4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bps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μετάδοσης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Χαρακτηριστικά του 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1" lang="el-GR" sz="3600" spc="-1" strike="noStrike">
                <a:solidFill>
                  <a:srgbClr val="000099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Gill Sans MT"/>
              </a:rPr>
              <a:t>C Bu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760" y="149976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ο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υλοποιείται με την χρήση δύο καλωδίων διπλής κατεύθυνσης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Τα δύο καλώδια αυτά είναι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75000"/>
              </a:lnSpc>
              <a:spcBef>
                <a:spcPts val="575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SDA (Serial Data)</a:t>
            </a:r>
            <a:r>
              <a:rPr b="0" lang="el-GR" sz="2300" spc="-1" strike="noStrike">
                <a:solidFill>
                  <a:srgbClr val="000000"/>
                </a:solidFill>
                <a:latin typeface="Gill Sans MT"/>
              </a:rPr>
              <a:t> που χρησιμοποιείται για την μεταφορά δεδομένων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SCL (Serial Clock)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που χρησιμοποιείται για τον συγχρονισμό των συσκευών που θα ανταλλάξουν δεδομένα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4" name="3 - Εικόνα" descr="i2c-diagram.png"/>
          <p:cNvPicPr/>
          <p:nvPr/>
        </p:nvPicPr>
        <p:blipFill>
          <a:blip r:embed="rId1"/>
          <a:stretch/>
        </p:blipFill>
        <p:spPr>
          <a:xfrm>
            <a:off x="1214280" y="3929040"/>
            <a:ext cx="64278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C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Είναι οι γραμμή μέσω της οποίας μεταφέρονται οι παλμοί του ρολογιού, οι οποίοι παλμοί χρησιμοποιούνται για τον συγχρονισμό των συσκευών που θα ανταλλάξουν δεδομένα μεταξύ τους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Αυτή είναι η γραμμή δεδομένων που χρησιμοποιούνται για την ανταλλαγή δεδομένων μεταξύ των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ster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και των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laves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συσκευών. Όπου μια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ster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συσκευή αποφασίζει για τις λειτουργίες που επιτελούνται πάνω στο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ενώ μια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lave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συσκευή ανταποκρίνεται στις αιτήσεις της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ster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. Λόγω του ότι μπορούν να χρησιμοποιηθούν πολλές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lave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συσκευές στην ίδια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DA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γραμμή, το πρωτόκολλο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l-GR" sz="2600" spc="-1" strike="noStrike">
                <a:solidFill>
                  <a:srgbClr val="000000"/>
                </a:solidFill>
                <a:latin typeface="Gill Sans MT"/>
              </a:rPr>
              <a:t> χρησιμοποιεί την μέθοδο της διευθυνσιοδότησης των συσκευών για τον συντονισμό της κυκλοφορίας στη γραμμή δεδομένων. Κάθε δευτερεύουσα συσκευή διαθέτει μια μοναδική διεύθυνση πάνω στη γραμμή η οποία καθορίζεται από τον κατασκευαστή προκειμένου να αποφεύγονται πιθανές συγκρούσεις μεταξύ των συσκευών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65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spyros panagiotakis</cp:lastModifiedBy>
  <cp:lastPrinted>2014-12-05T19:20:01Z</cp:lastPrinted>
  <dcterms:modified xsi:type="dcterms:W3CDTF">2023-04-28T13:10:21Z</dcterms:modified>
  <cp:revision>359</cp:revision>
  <dc:subject/>
  <dc:title>Chapter 6 slides, Computer Networking, 3rd edition</dc:title>
</cp:coreProperties>
</file>